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D34C-DCDD-45BA-9348-2C88142D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12480"/>
            <a:ext cx="8704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E01-0F81-43ED-A92C-383244CC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096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124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0960" y="39124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A8D3-63C7-483C-AF76-D6EA440F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3920" y="14842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7280" y="14842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124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3920" y="39124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7280" y="39124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F42-C602-461B-8A44-355506FD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49A8-96D2-4ECB-A90C-A29FFE4C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73ED-53F0-49A5-9660-1941393F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329F-5D55-41F0-B8B6-5768E672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24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0960" y="1484280"/>
            <a:ext cx="424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D00F-3932-47EC-BC6C-68807EA7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F85F-9B59-4BB5-857B-88ACC4BD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0920" y="214200"/>
            <a:ext cx="741672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9852-313E-4C07-8647-0DCB329E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0960" y="1484280"/>
            <a:ext cx="424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0920" y="39124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5558-389C-46C4-B4DA-752C78E2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0EAE-2E95-4F0A-965B-6561078C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24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096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0960" y="39124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AF00-A74A-41B1-9750-15597C3C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096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3912480"/>
            <a:ext cx="8704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DC38-8160-413E-B6BA-85B208B9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0920" y="3912480"/>
            <a:ext cx="8704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7F74-2777-4DE5-89AC-6DE5370B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096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50920" y="39124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0960" y="39124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4824-F999-4218-A873-67437468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3920" y="14842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7280" y="14842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50920" y="39124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3920" y="39124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7280" y="39124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B8D0-A110-4986-AF2A-8B0AD1B3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35F-A5DB-4AD0-9007-3318CD01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24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0960" y="1484280"/>
            <a:ext cx="424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6B3-AE95-4D33-A5DA-6EC248BE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7770-E9A3-4E7E-8968-E7CB2FED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14200"/>
            <a:ext cx="741672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38E0-D1E4-49AC-BAB1-6FD79D37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0960" y="1484280"/>
            <a:ext cx="424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124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4E2-2955-400E-86D7-5E8F19C7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24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096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0960" y="39124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3E9-1FDA-40B3-8A49-C1E487EE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096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12480"/>
            <a:ext cx="8704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42FB-02DF-4256-963A-AD6480D8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50920" y="1052280"/>
            <a:ext cx="8893080" cy="7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56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11280" y="6243480"/>
            <a:ext cx="439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6B58-180B-4EEE-93E8-008FF36123FC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120024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1547640" y="3644640"/>
            <a:ext cx="738828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47640" y="2133360"/>
            <a:ext cx="714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5056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411280" y="6248520"/>
            <a:ext cx="439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C072-0452-4B45-8CED-56C7F32D02EA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1416240" cy="1441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fieros.de/philips/EE2007.html" TargetMode="External"/><Relationship Id="rId3" Type="http://schemas.openxmlformats.org/officeDocument/2006/relationships/hyperlink" Target="http://norbert.old.no/exp/philips.html" TargetMode="External"/><Relationship Id="rId4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74516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Diplomarbeit</a:t>
            </a:r>
            <a:br>
              <a:rPr sz="4000"/>
            </a:br>
            <a:r>
              <a:rPr b="1" lang="de-DE" sz="4000" spc="-1" strike="noStrike">
                <a:solidFill>
                  <a:srgbClr val="333399"/>
                </a:solidFill>
                <a:latin typeface="Tahoma"/>
              </a:rPr>
              <a:t>Aufbau eines Spektrumanalysato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2920" y="4005360"/>
            <a:ext cx="6481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niel Hageneder, FB Elektrotechnik (I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8.12.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11280" y="5084640"/>
            <a:ext cx="389160" cy="49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2340000" y="5013360"/>
          <a:ext cx="4463640" cy="576360"/>
        </p:xfrm>
        <a:graphic>
          <a:graphicData uri="http://schemas.openxmlformats.org/drawingml/2006/table">
            <a:tbl>
              <a:tblPr/>
              <a:tblGrid>
                <a:gridCol w="446364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120024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549360"/>
            <a:ext cx="40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hhochschule Deggendo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052640"/>
            <a:ext cx="76327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219640" y="5084640"/>
            <a:ext cx="1525680" cy="43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916360" y="5157720"/>
            <a:ext cx="2235240" cy="2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s Konzep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wendung der Philips Bildröhreneinhe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iswerter und kompakter Aufba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wendung reiner Analogtechn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ohne Mikrocontroller, FFT, P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chauliche Darstellung der Techn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nsatz im Studentischen Praktik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nzigartiges Demonstrationsobjek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BD8-73BF-4C4B-8C1C-136DBD8A53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ndpass-Verfahr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569080" cy="3576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3120" y="1355760"/>
            <a:ext cx="85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4941720"/>
            <a:ext cx="8704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ünstige Frequenzeigenschafte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wendung eines Überlagerungsempfän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5445000"/>
            <a:ext cx="504720" cy="503280"/>
          </a:xfrm>
          <a:prstGeom prst="rightArrow">
            <a:avLst>
              <a:gd name="adj1" fmla="val 50000"/>
              <a:gd name="adj2" fmla="val 2507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BCF-9ECB-4491-9957-B6A5531CB69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608720" cy="2745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nzip der Misch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3789360"/>
            <a:ext cx="8704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onometrische Produktforme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332000" y="4292640"/>
                <a:ext cx="6769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843440" y="1123920"/>
            <a:ext cx="4300560" cy="2678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332000" y="5734080"/>
                <a:ext cx="67690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250920" y="5229360"/>
            <a:ext cx="8704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cherform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19640" y="486900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36000" y="486900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56D-DAA7-414E-B951-601E70DA22F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s Überlagerungsprinz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4752720" cy="2938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796000" y="1268280"/>
            <a:ext cx="2998800" cy="4824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4149720"/>
            <a:ext cx="5833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requenzumsetz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F-Festfrequenzfil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mprimierung für großen Darstellungsbereich (dBm, dBµ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F2F-5AD6-4BA8-BC12-8BF538095F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lockschaltbi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24000" y="1413000"/>
            <a:ext cx="8137440" cy="3052800"/>
            <a:chOff x="324000" y="1413000"/>
            <a:chExt cx="8137440" cy="3052800"/>
          </a:xfrm>
        </p:grpSpPr>
        <p:sp>
          <p:nvSpPr>
            <p:cNvPr id="151" name=""/>
            <p:cNvSpPr/>
            <p:nvPr/>
          </p:nvSpPr>
          <p:spPr>
            <a:xfrm>
              <a:off x="808200" y="1413000"/>
              <a:ext cx="1765080" cy="22446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ischung und 1. Z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27280" y="1413000"/>
              <a:ext cx="1655640" cy="224784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ischung und 2. Z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40160" y="1413000"/>
              <a:ext cx="1600200" cy="224784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ischung und 3. Z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12000" y="1413000"/>
              <a:ext cx="2449440" cy="14986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Amplitudenmess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33840" y="2216160"/>
              <a:ext cx="426960" cy="432000"/>
            </a:xfrm>
            <a:prstGeom prst="flowChartSummingJunction">
              <a:avLst/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98920" y="2216160"/>
              <a:ext cx="433440" cy="432000"/>
            </a:xfrm>
            <a:prstGeom prst="flowChartSummingJunction">
              <a:avLst/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483000" y="2162160"/>
              <a:ext cx="534960" cy="533520"/>
              <a:chOff x="3483000" y="2162160"/>
              <a:chExt cx="534960" cy="533520"/>
            </a:xfrm>
          </p:grpSpPr>
          <p:sp>
            <p:nvSpPr>
              <p:cNvPr id="158" name=""/>
              <p:cNvSpPr/>
              <p:nvPr/>
            </p:nvSpPr>
            <p:spPr>
              <a:xfrm>
                <a:off x="3483000" y="2162160"/>
                <a:ext cx="534960" cy="53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3571560" y="2259720"/>
                <a:ext cx="366120" cy="143280"/>
                <a:chOff x="3571560" y="2259720"/>
                <a:chExt cx="366120" cy="143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571560" y="2259720"/>
                  <a:ext cx="366120" cy="143280"/>
                </a:xfrm>
                <a:custGeom>
                  <a:avLst/>
                  <a:gdLst/>
                  <a:ahLst/>
                  <a:rect l="l" t="t" r="r" b="b"/>
                  <a:pathLst>
                    <a:path w="684" h="264">
                      <a:moveTo>
                        <a:pt x="0" y="132"/>
                      </a:moveTo>
                      <a:cubicBezTo>
                        <a:pt x="57" y="76"/>
                        <a:pt x="86" y="0"/>
                        <a:pt x="171" y="19"/>
                      </a:cubicBezTo>
                      <a:cubicBezTo>
                        <a:pt x="256" y="38"/>
                        <a:pt x="428" y="226"/>
                        <a:pt x="513" y="245"/>
                      </a:cubicBezTo>
                      <a:cubicBezTo>
                        <a:pt x="598" y="264"/>
                        <a:pt x="627" y="189"/>
                        <a:pt x="684" y="1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3723480" y="2300400"/>
                  <a:ext cx="61200" cy="6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571560" y="2472120"/>
                <a:ext cx="365040" cy="144360"/>
                <a:chOff x="3571560" y="2472120"/>
                <a:chExt cx="365040" cy="1443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571560" y="2472120"/>
                  <a:ext cx="365040" cy="144360"/>
                </a:xfrm>
                <a:custGeom>
                  <a:avLst/>
                  <a:gdLst/>
                  <a:ahLst/>
                  <a:rect l="l" t="t" r="r" b="b"/>
                  <a:pathLst>
                    <a:path w="684" h="264">
                      <a:moveTo>
                        <a:pt x="0" y="132"/>
                      </a:moveTo>
                      <a:cubicBezTo>
                        <a:pt x="57" y="76"/>
                        <a:pt x="86" y="0"/>
                        <a:pt x="171" y="19"/>
                      </a:cubicBezTo>
                      <a:cubicBezTo>
                        <a:pt x="256" y="38"/>
                        <a:pt x="428" y="226"/>
                        <a:pt x="513" y="245"/>
                      </a:cubicBezTo>
                      <a:cubicBezTo>
                        <a:pt x="598" y="264"/>
                        <a:pt x="627" y="189"/>
                        <a:pt x="684" y="1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3723120" y="2512440"/>
                  <a:ext cx="61200" cy="6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3571560" y="2367000"/>
                <a:ext cx="361080" cy="142200"/>
              </a:xfrm>
              <a:custGeom>
                <a:avLst/>
                <a:gdLst/>
                <a:ahLst/>
                <a:rect l="l" t="t" r="r" b="b"/>
                <a:pathLst>
                  <a:path w="684" h="264">
                    <a:moveTo>
                      <a:pt x="0" y="132"/>
                    </a:moveTo>
                    <a:cubicBezTo>
                      <a:pt x="57" y="76"/>
                      <a:pt x="86" y="0"/>
                      <a:pt x="171" y="19"/>
                    </a:cubicBezTo>
                    <a:cubicBezTo>
                      <a:pt x="256" y="38"/>
                      <a:pt x="428" y="226"/>
                      <a:pt x="513" y="245"/>
                    </a:cubicBezTo>
                    <a:cubicBezTo>
                      <a:pt x="598" y="264"/>
                      <a:pt x="627" y="189"/>
                      <a:pt x="684" y="13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251320" y="2162160"/>
              <a:ext cx="533520" cy="533520"/>
              <a:chOff x="5251320" y="2162160"/>
              <a:chExt cx="533520" cy="533520"/>
            </a:xfrm>
          </p:grpSpPr>
          <p:sp>
            <p:nvSpPr>
              <p:cNvPr id="167" name=""/>
              <p:cNvSpPr/>
              <p:nvPr/>
            </p:nvSpPr>
            <p:spPr>
              <a:xfrm>
                <a:off x="5251320" y="2162160"/>
                <a:ext cx="533520" cy="53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5339880" y="2259720"/>
                <a:ext cx="365040" cy="143280"/>
                <a:chOff x="5339880" y="2259720"/>
                <a:chExt cx="365040" cy="143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339880" y="2259720"/>
                  <a:ext cx="365040" cy="143280"/>
                </a:xfrm>
                <a:custGeom>
                  <a:avLst/>
                  <a:gdLst/>
                  <a:ahLst/>
                  <a:rect l="l" t="t" r="r" b="b"/>
                  <a:pathLst>
                    <a:path w="684" h="264">
                      <a:moveTo>
                        <a:pt x="0" y="132"/>
                      </a:moveTo>
                      <a:cubicBezTo>
                        <a:pt x="57" y="76"/>
                        <a:pt x="86" y="0"/>
                        <a:pt x="171" y="19"/>
                      </a:cubicBezTo>
                      <a:cubicBezTo>
                        <a:pt x="256" y="38"/>
                        <a:pt x="428" y="226"/>
                        <a:pt x="513" y="245"/>
                      </a:cubicBezTo>
                      <a:cubicBezTo>
                        <a:pt x="598" y="264"/>
                        <a:pt x="627" y="189"/>
                        <a:pt x="684" y="1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5491440" y="2300400"/>
                  <a:ext cx="61200" cy="6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339880" y="2472120"/>
                <a:ext cx="363960" cy="144360"/>
                <a:chOff x="5339880" y="2472120"/>
                <a:chExt cx="363960" cy="1443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339880" y="2472120"/>
                  <a:ext cx="363960" cy="144360"/>
                </a:xfrm>
                <a:custGeom>
                  <a:avLst/>
                  <a:gdLst/>
                  <a:ahLst/>
                  <a:rect l="l" t="t" r="r" b="b"/>
                  <a:pathLst>
                    <a:path w="684" h="264">
                      <a:moveTo>
                        <a:pt x="0" y="132"/>
                      </a:moveTo>
                      <a:cubicBezTo>
                        <a:pt x="57" y="76"/>
                        <a:pt x="86" y="0"/>
                        <a:pt x="171" y="19"/>
                      </a:cubicBezTo>
                      <a:cubicBezTo>
                        <a:pt x="256" y="38"/>
                        <a:pt x="428" y="226"/>
                        <a:pt x="513" y="245"/>
                      </a:cubicBezTo>
                      <a:cubicBezTo>
                        <a:pt x="598" y="264"/>
                        <a:pt x="627" y="189"/>
                        <a:pt x="684" y="1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5491080" y="2512440"/>
                  <a:ext cx="60840" cy="6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5339880" y="2367000"/>
                <a:ext cx="360360" cy="142200"/>
              </a:xfrm>
              <a:custGeom>
                <a:avLst/>
                <a:gdLst/>
                <a:ahLst/>
                <a:rect l="l" t="t" r="r" b="b"/>
                <a:pathLst>
                  <a:path w="684" h="264">
                    <a:moveTo>
                      <a:pt x="0" y="132"/>
                    </a:moveTo>
                    <a:cubicBezTo>
                      <a:pt x="57" y="76"/>
                      <a:pt x="86" y="0"/>
                      <a:pt x="171" y="19"/>
                    </a:cubicBezTo>
                    <a:cubicBezTo>
                      <a:pt x="256" y="38"/>
                      <a:pt x="428" y="226"/>
                      <a:pt x="513" y="245"/>
                    </a:cubicBezTo>
                    <a:cubicBezTo>
                      <a:pt x="598" y="264"/>
                      <a:pt x="627" y="189"/>
                      <a:pt x="684" y="13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6105600" y="2162160"/>
              <a:ext cx="538200" cy="533520"/>
              <a:chOff x="6105600" y="2162160"/>
              <a:chExt cx="538200" cy="533520"/>
            </a:xfrm>
          </p:grpSpPr>
          <p:sp>
            <p:nvSpPr>
              <p:cNvPr id="176" name=""/>
              <p:cNvSpPr/>
              <p:nvPr/>
            </p:nvSpPr>
            <p:spPr>
              <a:xfrm>
                <a:off x="6105600" y="2162160"/>
                <a:ext cx="538200" cy="53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239520" y="2250720"/>
                <a:ext cx="72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39520" y="2250720"/>
                <a:ext cx="313560" cy="17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239520" y="2428560"/>
                <a:ext cx="31356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961320" y="2162160"/>
              <a:ext cx="539640" cy="533520"/>
              <a:chOff x="6961320" y="2162160"/>
              <a:chExt cx="539640" cy="533520"/>
            </a:xfrm>
          </p:grpSpPr>
          <p:sp>
            <p:nvSpPr>
              <p:cNvPr id="181" name=""/>
              <p:cNvSpPr/>
              <p:nvPr/>
            </p:nvSpPr>
            <p:spPr>
              <a:xfrm>
                <a:off x="6961320" y="2162160"/>
                <a:ext cx="539640" cy="53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140600" y="2295000"/>
                <a:ext cx="108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051680" y="2426760"/>
                <a:ext cx="35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140600" y="2295000"/>
                <a:ext cx="179640" cy="13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7140600" y="2426400"/>
                <a:ext cx="179640" cy="13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20600" y="2295000"/>
                <a:ext cx="72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7775640" y="3503520"/>
              <a:ext cx="525240" cy="534960"/>
              <a:chOff x="7775640" y="3503520"/>
              <a:chExt cx="525240" cy="534960"/>
            </a:xfrm>
          </p:grpSpPr>
          <p:sp>
            <p:nvSpPr>
              <p:cNvPr id="188" name=""/>
              <p:cNvSpPr/>
              <p:nvPr/>
            </p:nvSpPr>
            <p:spPr>
              <a:xfrm>
                <a:off x="7775640" y="3503520"/>
                <a:ext cx="525240" cy="534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7818840" y="3949200"/>
                <a:ext cx="4384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7951320" y="3637440"/>
                <a:ext cx="0" cy="30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7906680" y="3726720"/>
                <a:ext cx="108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8082720" y="3771000"/>
                <a:ext cx="720" cy="17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448160" y="2911680"/>
              <a:ext cx="538200" cy="536400"/>
              <a:chOff x="4448160" y="2911680"/>
              <a:chExt cx="538200" cy="536400"/>
            </a:xfrm>
          </p:grpSpPr>
          <p:sp>
            <p:nvSpPr>
              <p:cNvPr id="194" name=""/>
              <p:cNvSpPr/>
              <p:nvPr/>
            </p:nvSpPr>
            <p:spPr>
              <a:xfrm>
                <a:off x="4448160" y="2911680"/>
                <a:ext cx="538200" cy="536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38520" y="3090960"/>
                <a:ext cx="3571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38520" y="3268800"/>
                <a:ext cx="356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38520" y="3134880"/>
                <a:ext cx="358200" cy="8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4717080" y="3000600"/>
                <a:ext cx="0" cy="8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717080" y="3268800"/>
                <a:ext cx="108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966960" y="3932280"/>
              <a:ext cx="533160" cy="533520"/>
              <a:chOff x="966960" y="3932280"/>
              <a:chExt cx="533160" cy="533520"/>
            </a:xfrm>
          </p:grpSpPr>
          <p:sp>
            <p:nvSpPr>
              <p:cNvPr id="201" name=""/>
              <p:cNvSpPr/>
              <p:nvPr/>
            </p:nvSpPr>
            <p:spPr>
              <a:xfrm>
                <a:off x="966960" y="3932280"/>
                <a:ext cx="533160" cy="53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11960" y="4376880"/>
                <a:ext cx="896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1368360" y="4065840"/>
                <a:ext cx="720" cy="31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1101600" y="4065840"/>
                <a:ext cx="266400" cy="31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368360" y="4376880"/>
                <a:ext cx="885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679840" y="2911680"/>
              <a:ext cx="533160" cy="536400"/>
              <a:chOff x="2679840" y="2911680"/>
              <a:chExt cx="533160" cy="536400"/>
            </a:xfrm>
          </p:grpSpPr>
          <p:sp>
            <p:nvSpPr>
              <p:cNvPr id="207" name=""/>
              <p:cNvSpPr/>
              <p:nvPr/>
            </p:nvSpPr>
            <p:spPr>
              <a:xfrm>
                <a:off x="2679840" y="2911680"/>
                <a:ext cx="533160" cy="536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69480" y="3090240"/>
                <a:ext cx="35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69480" y="3269160"/>
                <a:ext cx="3538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2769480" y="31352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13400" y="3090240"/>
                <a:ext cx="0" cy="13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2857680" y="31352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901960" y="3090240"/>
                <a:ext cx="0" cy="13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2946240" y="31352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990880" y="3090240"/>
                <a:ext cx="0" cy="13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3035880" y="31352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080160" y="3090240"/>
                <a:ext cx="0" cy="13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3124440" y="31352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2946240" y="3000960"/>
                <a:ext cx="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946240" y="3269160"/>
                <a:ext cx="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7764480" y="2162160"/>
              <a:ext cx="536400" cy="538200"/>
              <a:chOff x="7764480" y="2162160"/>
              <a:chExt cx="536400" cy="538200"/>
            </a:xfrm>
          </p:grpSpPr>
          <p:sp>
            <p:nvSpPr>
              <p:cNvPr id="222" name=""/>
              <p:cNvSpPr/>
              <p:nvPr/>
            </p:nvSpPr>
            <p:spPr>
              <a:xfrm>
                <a:off x="7764480" y="2162160"/>
                <a:ext cx="536400" cy="53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7853040" y="2251440"/>
                <a:ext cx="357120" cy="357120"/>
                <a:chOff x="7853040" y="2251440"/>
                <a:chExt cx="357120" cy="3571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7853040" y="2469240"/>
                  <a:ext cx="357120" cy="139320"/>
                </a:xfrm>
                <a:custGeom>
                  <a:avLst/>
                  <a:gdLst/>
                  <a:ahLst/>
                  <a:rect l="l" t="t" r="r" b="b"/>
                  <a:pathLst>
                    <a:path w="684" h="264">
                      <a:moveTo>
                        <a:pt x="0" y="132"/>
                      </a:moveTo>
                      <a:cubicBezTo>
                        <a:pt x="57" y="76"/>
                        <a:pt x="86" y="0"/>
                        <a:pt x="171" y="19"/>
                      </a:cubicBezTo>
                      <a:cubicBezTo>
                        <a:pt x="256" y="38"/>
                        <a:pt x="428" y="226"/>
                        <a:pt x="513" y="245"/>
                      </a:cubicBezTo>
                      <a:cubicBezTo>
                        <a:pt x="598" y="264"/>
                        <a:pt x="627" y="189"/>
                        <a:pt x="684" y="1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5" name=""/>
                <p:cNvGrpSpPr/>
                <p:nvPr/>
              </p:nvGrpSpPr>
              <p:grpSpPr>
                <a:xfrm>
                  <a:off x="7853040" y="2251440"/>
                  <a:ext cx="357120" cy="138600"/>
                  <a:chOff x="7853040" y="2251440"/>
                  <a:chExt cx="357120" cy="13860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7853040" y="2251440"/>
                    <a:ext cx="35712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4" h="264">
                        <a:moveTo>
                          <a:pt x="0" y="132"/>
                        </a:moveTo>
                        <a:cubicBezTo>
                          <a:pt x="57" y="76"/>
                          <a:pt x="86" y="0"/>
                          <a:pt x="171" y="19"/>
                        </a:cubicBezTo>
                        <a:cubicBezTo>
                          <a:pt x="256" y="38"/>
                          <a:pt x="428" y="226"/>
                          <a:pt x="513" y="245"/>
                        </a:cubicBezTo>
                        <a:cubicBezTo>
                          <a:pt x="598" y="264"/>
                          <a:pt x="627" y="189"/>
                          <a:pt x="684" y="13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V="1">
                    <a:off x="8001360" y="2290680"/>
                    <a:ext cx="59760" cy="59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8" name=""/>
              <p:cNvGrpSpPr/>
              <p:nvPr/>
            </p:nvGrpSpPr>
            <p:grpSpPr>
              <a:xfrm>
                <a:off x="7853040" y="2358360"/>
                <a:ext cx="357120" cy="143280"/>
                <a:chOff x="7853040" y="2358360"/>
                <a:chExt cx="357120" cy="1432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7853040" y="2358360"/>
                  <a:ext cx="357120" cy="143280"/>
                </a:xfrm>
                <a:custGeom>
                  <a:avLst/>
                  <a:gdLst/>
                  <a:ahLst/>
                  <a:rect l="l" t="t" r="r" b="b"/>
                  <a:pathLst>
                    <a:path w="684" h="264">
                      <a:moveTo>
                        <a:pt x="0" y="132"/>
                      </a:moveTo>
                      <a:cubicBezTo>
                        <a:pt x="57" y="76"/>
                        <a:pt x="86" y="0"/>
                        <a:pt x="171" y="19"/>
                      </a:cubicBezTo>
                      <a:cubicBezTo>
                        <a:pt x="256" y="38"/>
                        <a:pt x="428" y="226"/>
                        <a:pt x="513" y="245"/>
                      </a:cubicBezTo>
                      <a:cubicBezTo>
                        <a:pt x="598" y="264"/>
                        <a:pt x="627" y="189"/>
                        <a:pt x="684" y="1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V="1">
                  <a:off x="8001360" y="2399040"/>
                  <a:ext cx="59760" cy="6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5192640" y="1735200"/>
              <a:ext cx="642960" cy="3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ZF-Fil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 M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66000" y="1735200"/>
              <a:ext cx="852480" cy="3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ahoma"/>
                </a:rPr>
                <a:t>Hüllkurven- detek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73920" y="1735200"/>
              <a:ext cx="480960" cy="3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ahoma"/>
                </a:rPr>
                <a:t>Video-fil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79840" y="1989360"/>
              <a:ext cx="539640" cy="16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is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37120" y="2911680"/>
              <a:ext cx="695520" cy="59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uarz-Oszil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27 M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67000" y="2911680"/>
              <a:ext cx="962280" cy="59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Lokal-Oszil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434 M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08840" y="1735200"/>
              <a:ext cx="803160" cy="3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ahoma"/>
                </a:rPr>
                <a:t>Logarithm. Verstärk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96000" y="3824280"/>
              <a:ext cx="90828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-Ablenk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16760" y="3235320"/>
              <a:ext cx="90972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y-Ablenk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57360" y="3984840"/>
              <a:ext cx="74916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ägezahn-Gener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11920" y="4089600"/>
              <a:ext cx="588960" cy="21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nzei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94160" y="1989360"/>
              <a:ext cx="53820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is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30440" y="1735200"/>
              <a:ext cx="641520" cy="3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ZF-Fil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38 M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4" name=""/>
            <p:cNvCxnSpPr>
              <a:stCxn id="245" idx="3"/>
              <a:endCxn id="155" idx="2"/>
            </p:cNvCxnSpPr>
            <p:nvPr/>
          </p:nvCxnSpPr>
          <p:spPr>
            <a:xfrm>
              <a:off x="2307960" y="2427120"/>
              <a:ext cx="41796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46" name=""/>
            <p:cNvCxnSpPr>
              <a:stCxn id="155" idx="6"/>
              <a:endCxn id="158" idx="1"/>
            </p:cNvCxnSpPr>
            <p:nvPr/>
          </p:nvCxnSpPr>
          <p:spPr>
            <a:xfrm flipV="1">
              <a:off x="3168360" y="2428200"/>
              <a:ext cx="3150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47" name=""/>
            <p:cNvCxnSpPr>
              <a:stCxn id="176" idx="3"/>
              <a:endCxn id="181" idx="1"/>
            </p:cNvCxnSpPr>
            <p:nvPr/>
          </p:nvCxnSpPr>
          <p:spPr>
            <a:xfrm>
              <a:off x="6643800" y="2430000"/>
              <a:ext cx="317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48" name=""/>
            <p:cNvCxnSpPr>
              <a:stCxn id="222" idx="2"/>
              <a:endCxn id="188" idx="0"/>
            </p:cNvCxnSpPr>
            <p:nvPr/>
          </p:nvCxnSpPr>
          <p:spPr>
            <a:xfrm>
              <a:off x="8034120" y="2700000"/>
              <a:ext cx="5400" cy="80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49" name=""/>
            <p:cNvCxnSpPr>
              <a:stCxn id="207" idx="0"/>
              <a:endCxn id="155" idx="4"/>
            </p:cNvCxnSpPr>
            <p:nvPr/>
          </p:nvCxnSpPr>
          <p:spPr>
            <a:xfrm flipV="1">
              <a:off x="2945880" y="2656080"/>
              <a:ext cx="2520" cy="25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50" name=""/>
            <p:cNvCxnSpPr>
              <a:stCxn id="158" idx="3"/>
              <a:endCxn id="156" idx="2"/>
            </p:cNvCxnSpPr>
            <p:nvPr/>
          </p:nvCxnSpPr>
          <p:spPr>
            <a:xfrm>
              <a:off x="4017960" y="2428560"/>
              <a:ext cx="4737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51" name=""/>
            <p:cNvCxnSpPr>
              <a:stCxn id="156" idx="6"/>
              <a:endCxn id="167" idx="1"/>
            </p:cNvCxnSpPr>
            <p:nvPr/>
          </p:nvCxnSpPr>
          <p:spPr>
            <a:xfrm flipV="1">
              <a:off x="4940280" y="2428200"/>
              <a:ext cx="3117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52" name=""/>
            <p:cNvCxnSpPr>
              <a:stCxn id="167" idx="3"/>
              <a:endCxn id="176" idx="1"/>
            </p:cNvCxnSpPr>
            <p:nvPr/>
          </p:nvCxnSpPr>
          <p:spPr>
            <a:xfrm>
              <a:off x="5784480" y="2430000"/>
              <a:ext cx="321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53" name=""/>
            <p:cNvCxnSpPr>
              <a:stCxn id="181" idx="3"/>
              <a:endCxn id="222" idx="1"/>
            </p:cNvCxnSpPr>
            <p:nvPr/>
          </p:nvCxnSpPr>
          <p:spPr>
            <a:xfrm>
              <a:off x="7500960" y="2430000"/>
              <a:ext cx="26424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54" name=""/>
            <p:cNvCxnSpPr>
              <a:stCxn id="194" idx="0"/>
              <a:endCxn id="156" idx="4"/>
            </p:cNvCxnSpPr>
            <p:nvPr/>
          </p:nvCxnSpPr>
          <p:spPr>
            <a:xfrm flipH="1" flipV="1">
              <a:off x="4715640" y="2656080"/>
              <a:ext cx="2520" cy="25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55" name=""/>
            <p:cNvCxnSpPr>
              <a:stCxn id="201" idx="0"/>
              <a:endCxn id="256" idx="2"/>
            </p:cNvCxnSpPr>
            <p:nvPr/>
          </p:nvCxnSpPr>
          <p:spPr>
            <a:xfrm flipH="1" flipV="1">
              <a:off x="1234440" y="3445920"/>
              <a:ext cx="1080" cy="48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sp>
          <p:nvSpPr>
            <p:cNvPr id="257" name=""/>
            <p:cNvSpPr/>
            <p:nvPr/>
          </p:nvSpPr>
          <p:spPr>
            <a:xfrm>
              <a:off x="1019160" y="2211480"/>
              <a:ext cx="426960" cy="431640"/>
            </a:xfrm>
            <a:prstGeom prst="flowChartSummingJunction">
              <a:avLst/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770120" y="2158920"/>
              <a:ext cx="538200" cy="536760"/>
              <a:chOff x="1770120" y="2158920"/>
              <a:chExt cx="538200" cy="536760"/>
            </a:xfrm>
          </p:grpSpPr>
          <p:sp>
            <p:nvSpPr>
              <p:cNvPr id="245" name=""/>
              <p:cNvSpPr/>
              <p:nvPr/>
            </p:nvSpPr>
            <p:spPr>
              <a:xfrm>
                <a:off x="1770120" y="2158920"/>
                <a:ext cx="538200" cy="536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1859400" y="2256840"/>
                <a:ext cx="368280" cy="144000"/>
                <a:chOff x="1859400" y="2256840"/>
                <a:chExt cx="368280" cy="14400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1859400" y="2256840"/>
                  <a:ext cx="368280" cy="144000"/>
                </a:xfrm>
                <a:custGeom>
                  <a:avLst/>
                  <a:gdLst/>
                  <a:ahLst/>
                  <a:rect l="l" t="t" r="r" b="b"/>
                  <a:pathLst>
                    <a:path w="684" h="264">
                      <a:moveTo>
                        <a:pt x="0" y="132"/>
                      </a:moveTo>
                      <a:cubicBezTo>
                        <a:pt x="57" y="76"/>
                        <a:pt x="86" y="0"/>
                        <a:pt x="171" y="19"/>
                      </a:cubicBezTo>
                      <a:cubicBezTo>
                        <a:pt x="256" y="38"/>
                        <a:pt x="428" y="226"/>
                        <a:pt x="513" y="245"/>
                      </a:cubicBezTo>
                      <a:cubicBezTo>
                        <a:pt x="598" y="264"/>
                        <a:pt x="627" y="189"/>
                        <a:pt x="684" y="1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2012400" y="2297160"/>
                  <a:ext cx="61560" cy="6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1859400" y="2470680"/>
                <a:ext cx="367200" cy="145080"/>
                <a:chOff x="1859400" y="2470680"/>
                <a:chExt cx="367200" cy="1450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859400" y="2470680"/>
                  <a:ext cx="367200" cy="145080"/>
                </a:xfrm>
                <a:custGeom>
                  <a:avLst/>
                  <a:gdLst/>
                  <a:ahLst/>
                  <a:rect l="l" t="t" r="r" b="b"/>
                  <a:pathLst>
                    <a:path w="684" h="264">
                      <a:moveTo>
                        <a:pt x="0" y="132"/>
                      </a:moveTo>
                      <a:cubicBezTo>
                        <a:pt x="57" y="76"/>
                        <a:pt x="86" y="0"/>
                        <a:pt x="171" y="19"/>
                      </a:cubicBezTo>
                      <a:cubicBezTo>
                        <a:pt x="256" y="38"/>
                        <a:pt x="428" y="226"/>
                        <a:pt x="513" y="245"/>
                      </a:cubicBezTo>
                      <a:cubicBezTo>
                        <a:pt x="598" y="264"/>
                        <a:pt x="627" y="189"/>
                        <a:pt x="684" y="1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V="1">
                  <a:off x="2011680" y="2511720"/>
                  <a:ext cx="61560" cy="6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1859400" y="2364840"/>
                <a:ext cx="363240" cy="142920"/>
              </a:xfrm>
              <a:custGeom>
                <a:avLst/>
                <a:gdLst/>
                <a:ahLst/>
                <a:rect l="l" t="t" r="r" b="b"/>
                <a:pathLst>
                  <a:path w="684" h="264">
                    <a:moveTo>
                      <a:pt x="0" y="132"/>
                    </a:moveTo>
                    <a:cubicBezTo>
                      <a:pt x="57" y="76"/>
                      <a:pt x="86" y="0"/>
                      <a:pt x="171" y="19"/>
                    </a:cubicBezTo>
                    <a:cubicBezTo>
                      <a:pt x="256" y="38"/>
                      <a:pt x="428" y="226"/>
                      <a:pt x="513" y="245"/>
                    </a:cubicBezTo>
                    <a:cubicBezTo>
                      <a:pt x="598" y="264"/>
                      <a:pt x="627" y="189"/>
                      <a:pt x="684" y="13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966960" y="2908440"/>
              <a:ext cx="533160" cy="538200"/>
              <a:chOff x="966960" y="2908440"/>
              <a:chExt cx="533160" cy="538200"/>
            </a:xfrm>
          </p:grpSpPr>
          <p:sp>
            <p:nvSpPr>
              <p:cNvPr id="256" name=""/>
              <p:cNvSpPr/>
              <p:nvPr/>
            </p:nvSpPr>
            <p:spPr>
              <a:xfrm>
                <a:off x="966960" y="2908440"/>
                <a:ext cx="533160" cy="53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051920" y="2991600"/>
                <a:ext cx="370080" cy="371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132920" y="3073680"/>
                <a:ext cx="205560" cy="207000"/>
              </a:xfrm>
              <a:custGeom>
                <a:avLst/>
                <a:gdLst/>
                <a:ahLst/>
                <a:rect l="l" t="t" r="r" b="b"/>
                <a:pathLst>
                  <a:path w="684" h="264">
                    <a:moveTo>
                      <a:pt x="0" y="132"/>
                    </a:moveTo>
                    <a:cubicBezTo>
                      <a:pt x="57" y="76"/>
                      <a:pt x="86" y="0"/>
                      <a:pt x="171" y="19"/>
                    </a:cubicBezTo>
                    <a:cubicBezTo>
                      <a:pt x="256" y="38"/>
                      <a:pt x="428" y="226"/>
                      <a:pt x="513" y="245"/>
                    </a:cubicBezTo>
                    <a:cubicBezTo>
                      <a:pt x="598" y="264"/>
                      <a:pt x="627" y="189"/>
                      <a:pt x="684" y="13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1257840" y="2953800"/>
                <a:ext cx="20052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1011600" y="3197520"/>
                <a:ext cx="204480" cy="20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497520" y="2320920"/>
              <a:ext cx="251280" cy="416160"/>
              <a:chOff x="497520" y="2320920"/>
              <a:chExt cx="251280" cy="416160"/>
            </a:xfrm>
          </p:grpSpPr>
          <p:sp>
            <p:nvSpPr>
              <p:cNvPr id="272" name=""/>
              <p:cNvSpPr/>
              <p:nvPr/>
            </p:nvSpPr>
            <p:spPr>
              <a:xfrm>
                <a:off x="497520" y="2320920"/>
                <a:ext cx="251280" cy="22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306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3061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23160" y="2547000"/>
                <a:ext cx="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39640" y="2698920"/>
                <a:ext cx="1677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81040" y="2736360"/>
                <a:ext cx="842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966960" y="1989360"/>
              <a:ext cx="533160" cy="16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is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16120" y="1731960"/>
              <a:ext cx="698400" cy="3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ZF-Fil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472 M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57360" y="2908440"/>
              <a:ext cx="96192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Variab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szil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472-862 M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4000" y="2051280"/>
              <a:ext cx="5918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inga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4000" y="2320920"/>
              <a:ext cx="269640" cy="217440"/>
            </a:xfrm>
            <a:prstGeom prst="rightArrow">
              <a:avLst>
                <a:gd name="adj1" fmla="val 50000"/>
                <a:gd name="adj2" fmla="val 310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1" name=""/>
            <p:cNvCxnSpPr>
              <a:stCxn id="272" idx="0"/>
              <a:endCxn id="257" idx="2"/>
            </p:cNvCxnSpPr>
            <p:nvPr/>
          </p:nvCxnSpPr>
          <p:spPr>
            <a:xfrm flipV="1">
              <a:off x="623880" y="2426760"/>
              <a:ext cx="38808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82" name=""/>
            <p:cNvCxnSpPr>
              <a:stCxn id="256" idx="0"/>
              <a:endCxn id="257" idx="4"/>
            </p:cNvCxnSpPr>
            <p:nvPr/>
          </p:nvCxnSpPr>
          <p:spPr>
            <a:xfrm flipV="1">
              <a:off x="1233000" y="2650320"/>
              <a:ext cx="1080" cy="258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83" name=""/>
            <p:cNvCxnSpPr>
              <a:stCxn id="257" idx="6"/>
              <a:endCxn id="245" idx="1"/>
            </p:cNvCxnSpPr>
            <p:nvPr/>
          </p:nvCxnSpPr>
          <p:spPr>
            <a:xfrm>
              <a:off x="1454040" y="2427120"/>
              <a:ext cx="316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84" name=""/>
            <p:cNvCxnSpPr>
              <a:endCxn id="188" idx="1"/>
            </p:cNvCxnSpPr>
            <p:nvPr/>
          </p:nvCxnSpPr>
          <p:spPr>
            <a:xfrm>
              <a:off x="1240920" y="3769920"/>
              <a:ext cx="653508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</p:grpSp>
      <p:sp>
        <p:nvSpPr>
          <p:cNvPr id="285" name=""/>
          <p:cNvSpPr/>
          <p:nvPr/>
        </p:nvSpPr>
        <p:spPr>
          <a:xfrm>
            <a:off x="250920" y="4724280"/>
            <a:ext cx="870408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0920" y="4581360"/>
            <a:ext cx="87040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h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iedrige Frequenz (472…38…10,7 MH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h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iedrige Bandbreite (19…1…0,18 MH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te Auflösung auf verträglichem Frequenz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7C7-C023-4B89-B9E6-7FAF6BAAD46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Misch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4581000"/>
            <a:ext cx="8704080" cy="15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zip der ersten hohen Zwischenfrequen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hinderung von ungewollten Spiegelfrequen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wischenfrequenz von 433 M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7704000" cy="324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5E0-8822-4D5C-A70D-5B7E2023C3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Misch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6913440" cy="31780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50920" y="4581360"/>
            <a:ext cx="87040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1. ZF-Filter mit 472 MHz bestimmt Umsetz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434 MHz Oszillator mit SAW-Resonator (quarzstab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ifferenz von 38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6560" y="5661000"/>
            <a:ext cx="576360" cy="432000"/>
          </a:xfrm>
          <a:prstGeom prst="rightArrow">
            <a:avLst>
              <a:gd name="adj1" fmla="val 50000"/>
              <a:gd name="adj2" fmla="val 33354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B1FB-962E-45FD-AE54-CFD7222F592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Misch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6919920" cy="31672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50920" y="4581360"/>
            <a:ext cx="87040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zillator (27 MHz) setzt 2.ZF (38 MHz) 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swertung des Signalpegels auf einem Zwischenfrequenzniveau von 10,7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A55-B67A-4119-A00A-F4F298B9E5E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auswert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3573000"/>
            <a:ext cx="87040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ilterung bestimmt gesamte Auflös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Logarithmische Darstellung für großen Messbereich (d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Hüllkurven-Detektor zur Pegelbestimm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öglichkeit der Signalglättung für bess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rstellung (Videofil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627280" y="1341360"/>
            <a:ext cx="3241440" cy="1982520"/>
            <a:chOff x="2627280" y="1341360"/>
            <a:chExt cx="3241440" cy="1982520"/>
          </a:xfrm>
        </p:grpSpPr>
        <p:sp>
          <p:nvSpPr>
            <p:cNvPr id="300" name=""/>
            <p:cNvSpPr/>
            <p:nvPr/>
          </p:nvSpPr>
          <p:spPr>
            <a:xfrm>
              <a:off x="2627280" y="1341360"/>
              <a:ext cx="3241440" cy="19825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mplitudenmess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2751120" y="2332440"/>
              <a:ext cx="712080" cy="705960"/>
              <a:chOff x="2751120" y="2332440"/>
              <a:chExt cx="712080" cy="705960"/>
            </a:xfrm>
          </p:grpSpPr>
          <p:sp>
            <p:nvSpPr>
              <p:cNvPr id="302" name=""/>
              <p:cNvSpPr/>
              <p:nvPr/>
            </p:nvSpPr>
            <p:spPr>
              <a:xfrm>
                <a:off x="2751120" y="2332440"/>
                <a:ext cx="712080" cy="70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28600" y="2449800"/>
                <a:ext cx="1080" cy="47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928600" y="2449800"/>
                <a:ext cx="414720" cy="23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2928600" y="2685240"/>
                <a:ext cx="414720" cy="23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883320" y="2332440"/>
              <a:ext cx="713880" cy="705960"/>
              <a:chOff x="3883320" y="2332440"/>
              <a:chExt cx="713880" cy="705960"/>
            </a:xfrm>
          </p:grpSpPr>
          <p:sp>
            <p:nvSpPr>
              <p:cNvPr id="307" name=""/>
              <p:cNvSpPr/>
              <p:nvPr/>
            </p:nvSpPr>
            <p:spPr>
              <a:xfrm>
                <a:off x="3883320" y="2332440"/>
                <a:ext cx="713880" cy="70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20560" y="2508120"/>
                <a:ext cx="1440" cy="35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02840" y="2682360"/>
                <a:ext cx="47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120560" y="2508120"/>
                <a:ext cx="237600" cy="17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4120560" y="2682000"/>
                <a:ext cx="237600" cy="17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58520" y="2508120"/>
                <a:ext cx="1080" cy="35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4946400" y="2332440"/>
              <a:ext cx="709560" cy="712080"/>
              <a:chOff x="4946400" y="2332440"/>
              <a:chExt cx="709560" cy="712080"/>
            </a:xfrm>
          </p:grpSpPr>
          <p:sp>
            <p:nvSpPr>
              <p:cNvPr id="314" name=""/>
              <p:cNvSpPr/>
              <p:nvPr/>
            </p:nvSpPr>
            <p:spPr>
              <a:xfrm>
                <a:off x="4946400" y="2332440"/>
                <a:ext cx="709560" cy="712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5063760" y="2450520"/>
                <a:ext cx="472680" cy="472320"/>
                <a:chOff x="5063760" y="2450520"/>
                <a:chExt cx="472680" cy="472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063760" y="2738520"/>
                  <a:ext cx="472680" cy="184320"/>
                </a:xfrm>
                <a:custGeom>
                  <a:avLst/>
                  <a:gdLst/>
                  <a:ahLst/>
                  <a:rect l="l" t="t" r="r" b="b"/>
                  <a:pathLst>
                    <a:path w="684" h="264">
                      <a:moveTo>
                        <a:pt x="0" y="132"/>
                      </a:moveTo>
                      <a:cubicBezTo>
                        <a:pt x="57" y="76"/>
                        <a:pt x="86" y="0"/>
                        <a:pt x="171" y="19"/>
                      </a:cubicBezTo>
                      <a:cubicBezTo>
                        <a:pt x="256" y="38"/>
                        <a:pt x="428" y="226"/>
                        <a:pt x="513" y="245"/>
                      </a:cubicBezTo>
                      <a:cubicBezTo>
                        <a:pt x="598" y="264"/>
                        <a:pt x="627" y="189"/>
                        <a:pt x="684" y="1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"/>
                <p:cNvGrpSpPr/>
                <p:nvPr/>
              </p:nvGrpSpPr>
              <p:grpSpPr>
                <a:xfrm>
                  <a:off x="5063760" y="2450520"/>
                  <a:ext cx="472680" cy="183240"/>
                  <a:chOff x="5063760" y="2450520"/>
                  <a:chExt cx="472680" cy="1832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5063760" y="2450520"/>
                    <a:ext cx="472680" cy="18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4" h="264">
                        <a:moveTo>
                          <a:pt x="0" y="132"/>
                        </a:moveTo>
                        <a:cubicBezTo>
                          <a:pt x="57" y="76"/>
                          <a:pt x="86" y="0"/>
                          <a:pt x="171" y="19"/>
                        </a:cubicBezTo>
                        <a:cubicBezTo>
                          <a:pt x="256" y="38"/>
                          <a:pt x="428" y="226"/>
                          <a:pt x="513" y="245"/>
                        </a:cubicBezTo>
                        <a:cubicBezTo>
                          <a:pt x="598" y="264"/>
                          <a:pt x="627" y="189"/>
                          <a:pt x="684" y="13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V="1">
                    <a:off x="5259960" y="2502360"/>
                    <a:ext cx="79200" cy="79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0" name=""/>
              <p:cNvGrpSpPr/>
              <p:nvPr/>
            </p:nvGrpSpPr>
            <p:grpSpPr>
              <a:xfrm>
                <a:off x="5063760" y="2592000"/>
                <a:ext cx="472680" cy="189720"/>
                <a:chOff x="5063760" y="2592000"/>
                <a:chExt cx="472680" cy="1897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5063760" y="2592000"/>
                  <a:ext cx="472680" cy="189720"/>
                </a:xfrm>
                <a:custGeom>
                  <a:avLst/>
                  <a:gdLst/>
                  <a:ahLst/>
                  <a:rect l="l" t="t" r="r" b="b"/>
                  <a:pathLst>
                    <a:path w="684" h="264">
                      <a:moveTo>
                        <a:pt x="0" y="132"/>
                      </a:moveTo>
                      <a:cubicBezTo>
                        <a:pt x="57" y="76"/>
                        <a:pt x="86" y="0"/>
                        <a:pt x="171" y="19"/>
                      </a:cubicBezTo>
                      <a:cubicBezTo>
                        <a:pt x="256" y="38"/>
                        <a:pt x="428" y="226"/>
                        <a:pt x="513" y="245"/>
                      </a:cubicBezTo>
                      <a:cubicBezTo>
                        <a:pt x="598" y="264"/>
                        <a:pt x="627" y="189"/>
                        <a:pt x="684" y="1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5259960" y="2645280"/>
                  <a:ext cx="7920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"/>
            <p:cNvSpPr/>
            <p:nvPr/>
          </p:nvSpPr>
          <p:spPr>
            <a:xfrm>
              <a:off x="3889800" y="1767600"/>
              <a:ext cx="1127880" cy="49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ahoma"/>
                </a:rPr>
                <a:t>Hüllkurven- detek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91120" y="1767600"/>
              <a:ext cx="636480" cy="49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ahoma"/>
                </a:rPr>
                <a:t>Video-fil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5440" y="1767600"/>
              <a:ext cx="1062720" cy="49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ahoma"/>
                </a:rPr>
                <a:t>Logarithm. Verstär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6" name=""/>
            <p:cNvCxnSpPr>
              <a:stCxn id="302" idx="3"/>
              <a:endCxn id="307" idx="1"/>
            </p:cNvCxnSpPr>
            <p:nvPr/>
          </p:nvCxnSpPr>
          <p:spPr>
            <a:xfrm>
              <a:off x="3462840" y="2687040"/>
              <a:ext cx="420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327" name=""/>
            <p:cNvCxnSpPr>
              <a:stCxn id="307" idx="3"/>
              <a:endCxn id="314" idx="1"/>
            </p:cNvCxnSpPr>
            <p:nvPr/>
          </p:nvCxnSpPr>
          <p:spPr>
            <a:xfrm>
              <a:off x="4597560" y="2687400"/>
              <a:ext cx="349200" cy="2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8C8-4C61-4EC1-A8AE-3932E0D15B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garithmischer Detek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771640" y="2492280"/>
          <a:ext cx="4596120" cy="27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492280"/>
                    <a:ext cx="4596120" cy="27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2916360" y="1773360"/>
            <a:ext cx="1152360" cy="86364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16360" y="1773360"/>
            <a:ext cx="1152720" cy="86364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89080" y="5157720"/>
            <a:ext cx="144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g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8 M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16360" y="56610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kaloszillator (27 M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332000" y="126828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 schmalbandige Filter mit 10,7 MHz (B=180k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35640" y="515772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SSI-Ausgang (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 rot="5400000">
            <a:off x="4788360" y="4579560"/>
            <a:ext cx="863640" cy="1008000"/>
          </a:xfrm>
          <a:custGeom>
            <a:avLst/>
            <a:gdLst>
              <a:gd name="textAreaLeft" fmla="*/ 0 w 863640"/>
              <a:gd name="textAreaRight" fmla="*/ 864000 w 8636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387587"/>
                <a:lnTo>
                  <a:pt x="10839" y="0"/>
                </a:lnTo>
                <a:arcTo wR="10800" hR="10800" stAng="-5387587" swAng="538758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052720" y="4581360"/>
            <a:ext cx="1368360" cy="144144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441440"/>
              <a:gd name="textAreaBottom" fmla="*/ 1442160 h 1441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385326"/>
                <a:lnTo>
                  <a:pt x="10846" y="0"/>
                </a:lnTo>
                <a:arcTo wR="10800" hR="10800" stAng="-5385326" swAng="5385326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3996720" y="4581360"/>
            <a:ext cx="1368360" cy="1441440"/>
          </a:xfrm>
          <a:custGeom>
            <a:avLst/>
            <a:gdLst>
              <a:gd name="textAreaLeft" fmla="*/ -360 w 1368360"/>
              <a:gd name="textAreaRight" fmla="*/ 1368360 w 1368360"/>
              <a:gd name="textAreaTop" fmla="*/ 360 h 1441440"/>
              <a:gd name="textAreaBottom" fmla="*/ 1442160 h 1441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385326"/>
                <a:lnTo>
                  <a:pt x="10846" y="0"/>
                </a:lnTo>
                <a:arcTo wR="10800" hR="10800" stAng="-5385326" swAng="5385326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2400" y="196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5280" y="357336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ilips SA 6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5280" y="3284640"/>
            <a:ext cx="2448000" cy="1008000"/>
          </a:xfrm>
          <a:prstGeom prst="rightArrow">
            <a:avLst>
              <a:gd name="adj1" fmla="val 50000"/>
              <a:gd name="adj2" fmla="val 607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BA0C-A27E-487E-AD72-6D863AFECB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al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 Id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um Spektralanalys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e, Zeit und Frequenzbereich, Darstell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s Konz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pass-Verfahren, Prinzip der Mischung, Überlagerungsprinz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schaltbild, Frequenzumsetzu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ktorschalt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teuer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ldröhre und Anzei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sammenfass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B5F-92C2-43BF-98C5-3975E5F2E0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uer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89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reilaufender Sägezahngenerat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este X-Ablenkung der Anzei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ariable VCO-Steuerspannung bestimmt Frequen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ustastung der Bildröhre beim Rücklau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nutzer-Einstellung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urchlauffrequenz (Sweep):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83…500 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rstellungsbandbreite (Span):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0…390 M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ittenfrequenz (Center):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0…390 M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DE7-9CB6-4205-A5BE-CFF24B78E77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e Bildröh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5473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zillographenröhre DG 7-3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t elektrostatischer Ablenk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979640" y="3068640"/>
            <a:ext cx="3551040" cy="22478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156360" y="3068640"/>
            <a:ext cx="15620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28B2-8824-4BC3-B14B-5C9878CEEF8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zei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250920" y="148392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teuerungsschaltung aus Philips EE 1007/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nfache und effektive Schaltungstechnik mi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annungswand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Y-Ablenkverstä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punkt-Einstell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076720" y="3500280"/>
            <a:ext cx="3657600" cy="1771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500720" y="5300640"/>
            <a:ext cx="464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ähere Infos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fieros.de/philips/EE2007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norbert.old.no/exp/philip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3085-DE15-4B94-83BD-B9A82632283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usammenfass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istungsfähigkeit außer Konkurrenz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er Funktionalität ist gewährleist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…390 MHz mit ~60dB Dynamikbereic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 bietet Raum für Erweiterungen und Verbesserungen (digitale Steuerung,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essante Technik mit Lerneffek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FC2-2C0A-4302-B094-41EFE90A610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Danke für Ihre Aufmerksamkeit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BBD-BEC2-4AD6-A1C0-9EEAD0B476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monst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704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Vorführung des Gerät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antwortung von Frage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63F-76B4-4626-A437-F84D88956F8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e Id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3456000" cy="1697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0920" y="4508640"/>
            <a:ext cx="870408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268280"/>
            <a:ext cx="870408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484280"/>
            <a:ext cx="8704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hilips-Experimentierkästen der EE-Reih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400536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4292640"/>
            <a:ext cx="8281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itzenmodelle aus den 70er-Jah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zillograph, Transistor-Kennlinienschreiber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rnsehempfänger für Batteriebetri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ndlung aktueller Grundl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400536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860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. 280.- 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3457440" cy="170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5B0-7FC4-4145-82AC-D673D652129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e Erweiterung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entrale Bereiche der Elektrotechnik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eitbereic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auanleitung für ein funktionsfähiges Oszillosk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urde bereits in der Baukastenserie behande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requenzbereic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pektrumanalysator als Messgerä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urde leider nicht vorgestel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Bau eines Spektrum Analysat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537372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8A1-1201-4EE8-A37C-199D976E6E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arum Spektralanalys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eitbereich für Ereignisse (Transient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stiegszeiten, Überschwingen, Begrenz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requenzbereich, Spektralbereic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pektrale Zusammensetzung von Signa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Harmonische Verzerrun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odulationsverzerrun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requenzstabilitä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hr wichtig in der Nachrichtentechni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66560" y="5805360"/>
            <a:ext cx="648000" cy="503280"/>
          </a:xfrm>
          <a:prstGeom prst="rightArrow">
            <a:avLst>
              <a:gd name="adj1" fmla="val 50000"/>
              <a:gd name="adj2" fmla="val 32189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4AF6-1BA7-4F43-BBF7-44EF5D1C10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iodische Sign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608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wendung der Fourier-Reihenentwickl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iner“ Si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WM-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M-Signal mit Trä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iskrete Spekt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rundfrequenz f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Harmonische f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= n▪f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mbination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48360" y="2852640"/>
            <a:ext cx="3614760" cy="1724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148360" y="4653000"/>
            <a:ext cx="3620880" cy="1565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148360" y="1125360"/>
            <a:ext cx="3616200" cy="16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992E-CA54-43FB-96A8-932D76E8E3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ichtperiodische Sign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392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sche Sign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usc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e Bitfol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tion (QPS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inuierliches Spek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rachtung im Frequenzbereich sinnvo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4116240" cy="528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0B1-70F6-4C77-BF28-6382B8ED46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Zeit- und Frequenzbereich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26792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thematischer Zusammenh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4960" indent="-17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ourier-Transformation bzw. Rücktrans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4960" indent="-174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65840" y="2349360"/>
            <a:ext cx="4178160" cy="2676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4176720" cy="2392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1480" y="5084640"/>
            <a:ext cx="86425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thematisch korrekt, doch technisch nicht realisierbar (t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∞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EF0-7425-4646-8990-838A85D8632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rstellungsfor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schiedliche Vorgehensweis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itbereic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kte visuelle Umsetzung (Zeit – Amplitu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rachtung im Frequenzbereic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terung von Signal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z.B. abstimmbare Bandpass-Fil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ung der Spannungsamplitu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sammenhang Frequenz – Amplitude mi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nsatz von Empfängertechni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6BF-80ED-4FB8-86C0-84A53DF7B63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13:28:34Z</dcterms:created>
  <dc:creator>D. Hageneder</dc:creator>
  <dc:description/>
  <dc:language>en-US</dc:language>
  <cp:lastModifiedBy>Mücke</cp:lastModifiedBy>
  <dcterms:modified xsi:type="dcterms:W3CDTF">2009-06-20T15:32:04Z</dcterms:modified>
  <cp:revision>560</cp:revision>
  <dc:subject/>
  <dc:title>Folie 1</dc:title>
</cp:coreProperties>
</file>