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307-5902-4CC4-B8EC-795294E0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AAC-A4EB-492B-A340-8E2B4A6F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EF5-9763-44C8-B87B-E3403984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E84-20F0-4542-9A4D-9760F5C7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410-956C-4879-9DB0-9A7FBF10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D27F-29DE-48C9-BE0C-350A2FD7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4C40-B56E-4AD2-BEAA-B4BC654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EA0-0B59-4830-B8CD-5FD4AE06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4A3-E226-455A-AD40-E37038B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920" y="214200"/>
            <a:ext cx="74167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AAF-CE9A-4AB1-B77C-F489F300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09A3-8DCA-4C76-B695-06BE048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B18-72E4-447D-9F45-D198828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3F7-7F0F-4DB9-889D-6E47AAF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418-95EB-4C04-82EC-518C903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38F1-405A-4C84-AA0D-B011856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E0F7-C2F9-4508-9E09-A43572C5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392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7280" y="14842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392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7280" y="3912480"/>
            <a:ext cx="280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E0B-C2CA-48A9-B01A-1C017FFE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FCC-BC7D-431A-B777-CCBBFEA6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FE2-2BCF-4400-931F-6B03A63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5F5-2AC2-457D-B604-E35D70CA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14200"/>
            <a:ext cx="74167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373-459A-4CB2-9020-811BFFCD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660-D7E3-4373-B7AF-651A968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0960" y="39124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34D-5E37-4139-B89B-874A8E5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0960" y="1484280"/>
            <a:ext cx="424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12480"/>
            <a:ext cx="8704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B35-588B-494D-8A04-9B0C4006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50920" y="1052280"/>
            <a:ext cx="8893080" cy="7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11280" y="6243480"/>
            <a:ext cx="43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F0B-EBF8-4419-B4F4-EE7A3F599A9B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1547640" y="3644640"/>
            <a:ext cx="738828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2133360"/>
            <a:ext cx="714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056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11280" y="6248520"/>
            <a:ext cx="43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B83-39C9-423D-BB76-B8B4C748D992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1416240" cy="144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fieros.de/philips/EE2007.html" TargetMode="External"/><Relationship Id="rId3" Type="http://schemas.openxmlformats.org/officeDocument/2006/relationships/hyperlink" Target="http://norbert.old.no/exp/philips.html" TargetMode="Externa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7451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Diplomarbeit</a:t>
            </a:r>
            <a:br>
              <a:rPr sz="4000"/>
            </a:br>
            <a:r>
              <a:rPr b="1" lang="de-DE" sz="4000" spc="-1" strike="noStrike">
                <a:solidFill>
                  <a:srgbClr val="333399"/>
                </a:solidFill>
                <a:latin typeface="Tahoma"/>
              </a:rPr>
              <a:t>Aufbau eines Spektrumanalysato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2920" y="4005360"/>
            <a:ext cx="648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iel Hageneder, FB Elektrotechnik (I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8.12.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5084640"/>
            <a:ext cx="389160" cy="4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340000" y="5013360"/>
          <a:ext cx="4463640" cy="576360"/>
        </p:xfrm>
        <a:graphic>
          <a:graphicData uri="http://schemas.openxmlformats.org/drawingml/2006/table">
            <a:tbl>
              <a:tblPr/>
              <a:tblGrid>
                <a:gridCol w="44636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20024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54936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hhochschule Deggen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76327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5084640"/>
            <a:ext cx="152568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916360" y="5157720"/>
            <a:ext cx="223524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 Konz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der Philips Bildröhreneinh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iswerter und kompakter Aufb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reiner Analogtech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hne Mikrocontroller, FFT, P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chauliche Darstellung der Tech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satz im Studentischen Praktik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zigartiges Demonstrationsobjek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F74-345F-4904-B083-5CBB7D74F6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ndpass-Verfah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57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3120" y="1355760"/>
            <a:ext cx="85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941720"/>
            <a:ext cx="8704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ünstige Frequenzeigenschaft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wendung eines Überlagerungsempfä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445000"/>
            <a:ext cx="504720" cy="503280"/>
          </a:xfrm>
          <a:prstGeom prst="rightArrow">
            <a:avLst>
              <a:gd name="adj1" fmla="val 50000"/>
              <a:gd name="adj2" fmla="val 2507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668-2FE6-4394-AA60-B335B5A18C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608720" cy="2745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zip der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704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onometrische Produktform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32000" y="4292640"/>
                <a:ext cx="6769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43440" y="1123920"/>
            <a:ext cx="4300560" cy="26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5734080"/>
                <a:ext cx="67690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50920" y="5229360"/>
            <a:ext cx="8704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cherform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86900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486900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C82-3273-460F-A190-C2D9759C01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 Überlagerungsprinz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752720" cy="29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998800" cy="4824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5833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equenzumse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F-Festfrequenzfi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primierung für großen Darstellungsbereich (dBm, dBµ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F57-3FCD-482E-B245-E4622A668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schal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1413000"/>
            <a:ext cx="8137440" cy="3052800"/>
            <a:chOff x="324000" y="1413000"/>
            <a:chExt cx="8137440" cy="3052800"/>
          </a:xfrm>
        </p:grpSpPr>
        <p:sp>
          <p:nvSpPr>
            <p:cNvPr id="151" name=""/>
            <p:cNvSpPr/>
            <p:nvPr/>
          </p:nvSpPr>
          <p:spPr>
            <a:xfrm>
              <a:off x="808200" y="1413000"/>
              <a:ext cx="1765080" cy="2244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1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27280" y="1413000"/>
              <a:ext cx="1655640" cy="22478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2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0160" y="1413000"/>
              <a:ext cx="1600200" cy="22478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schung und 3. Z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2000" y="1413000"/>
              <a:ext cx="2449440" cy="1498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mplitudenmess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33840" y="2216160"/>
              <a:ext cx="426960" cy="43200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8920" y="2216160"/>
              <a:ext cx="433440" cy="43200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483000" y="2162160"/>
              <a:ext cx="534960" cy="533520"/>
              <a:chOff x="3483000" y="2162160"/>
              <a:chExt cx="534960" cy="533520"/>
            </a:xfrm>
          </p:grpSpPr>
          <p:sp>
            <p:nvSpPr>
              <p:cNvPr id="158" name=""/>
              <p:cNvSpPr/>
              <p:nvPr/>
            </p:nvSpPr>
            <p:spPr>
              <a:xfrm>
                <a:off x="3483000" y="2162160"/>
                <a:ext cx="5349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71560" y="2259720"/>
                <a:ext cx="366120" cy="143280"/>
                <a:chOff x="3571560" y="2259720"/>
                <a:chExt cx="366120" cy="143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71560" y="2259720"/>
                  <a:ext cx="36612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723480" y="2300400"/>
                  <a:ext cx="6120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571560" y="2472120"/>
                <a:ext cx="365040" cy="144360"/>
                <a:chOff x="3571560" y="2472120"/>
                <a:chExt cx="365040" cy="144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571560" y="2472120"/>
                  <a:ext cx="365040" cy="14436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3723120" y="2512440"/>
                  <a:ext cx="6120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571560" y="2367000"/>
                <a:ext cx="361080" cy="1422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251320" y="2162160"/>
              <a:ext cx="533520" cy="533520"/>
              <a:chOff x="5251320" y="2162160"/>
              <a:chExt cx="533520" cy="533520"/>
            </a:xfrm>
          </p:grpSpPr>
          <p:sp>
            <p:nvSpPr>
              <p:cNvPr id="167" name=""/>
              <p:cNvSpPr/>
              <p:nvPr/>
            </p:nvSpPr>
            <p:spPr>
              <a:xfrm>
                <a:off x="5251320" y="2162160"/>
                <a:ext cx="53352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339880" y="2259720"/>
                <a:ext cx="365040" cy="143280"/>
                <a:chOff x="5339880" y="2259720"/>
                <a:chExt cx="365040" cy="143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339880" y="2259720"/>
                  <a:ext cx="36504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491440" y="2300400"/>
                  <a:ext cx="6120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339880" y="2472120"/>
                <a:ext cx="363960" cy="144360"/>
                <a:chOff x="5339880" y="2472120"/>
                <a:chExt cx="363960" cy="144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39880" y="2472120"/>
                  <a:ext cx="363960" cy="14436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491080" y="2512440"/>
                  <a:ext cx="6084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339880" y="2367000"/>
                <a:ext cx="360360" cy="1422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05600" y="2162160"/>
              <a:ext cx="538200" cy="533520"/>
              <a:chOff x="6105600" y="2162160"/>
              <a:chExt cx="538200" cy="5335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05600" y="2162160"/>
                <a:ext cx="53820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39520" y="2250720"/>
                <a:ext cx="7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39520" y="2250720"/>
                <a:ext cx="31356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239520" y="2428560"/>
                <a:ext cx="313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61320" y="2162160"/>
              <a:ext cx="539640" cy="533520"/>
              <a:chOff x="6961320" y="2162160"/>
              <a:chExt cx="539640" cy="533520"/>
            </a:xfrm>
          </p:grpSpPr>
          <p:sp>
            <p:nvSpPr>
              <p:cNvPr id="181" name=""/>
              <p:cNvSpPr/>
              <p:nvPr/>
            </p:nvSpPr>
            <p:spPr>
              <a:xfrm>
                <a:off x="6961320" y="2162160"/>
                <a:ext cx="5396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40600" y="2295000"/>
                <a:ext cx="108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51680" y="2426760"/>
                <a:ext cx="3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40600" y="2295000"/>
                <a:ext cx="179640" cy="1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140600" y="2426400"/>
                <a:ext cx="17964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20600" y="2295000"/>
                <a:ext cx="72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775640" y="3503520"/>
              <a:ext cx="525240" cy="534960"/>
              <a:chOff x="7775640" y="3503520"/>
              <a:chExt cx="525240" cy="534960"/>
            </a:xfrm>
          </p:grpSpPr>
          <p:sp>
            <p:nvSpPr>
              <p:cNvPr id="188" name=""/>
              <p:cNvSpPr/>
              <p:nvPr/>
            </p:nvSpPr>
            <p:spPr>
              <a:xfrm>
                <a:off x="7775640" y="3503520"/>
                <a:ext cx="525240" cy="534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818840" y="3949200"/>
                <a:ext cx="438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951320" y="36374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906680" y="3726720"/>
                <a:ext cx="10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8082720" y="3771000"/>
                <a:ext cx="720" cy="17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48160" y="2911680"/>
              <a:ext cx="538200" cy="536400"/>
              <a:chOff x="4448160" y="2911680"/>
              <a:chExt cx="538200" cy="536400"/>
            </a:xfrm>
          </p:grpSpPr>
          <p:sp>
            <p:nvSpPr>
              <p:cNvPr id="194" name=""/>
              <p:cNvSpPr/>
              <p:nvPr/>
            </p:nvSpPr>
            <p:spPr>
              <a:xfrm>
                <a:off x="4448160" y="2911680"/>
                <a:ext cx="538200" cy="53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38520" y="3090960"/>
                <a:ext cx="357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8520" y="3268800"/>
                <a:ext cx="356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38520" y="3134880"/>
                <a:ext cx="358200" cy="8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717080" y="3000600"/>
                <a:ext cx="0" cy="8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17080" y="3268800"/>
                <a:ext cx="108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66960" y="3932280"/>
              <a:ext cx="533160" cy="533520"/>
              <a:chOff x="966960" y="3932280"/>
              <a:chExt cx="533160" cy="533520"/>
            </a:xfrm>
          </p:grpSpPr>
          <p:sp>
            <p:nvSpPr>
              <p:cNvPr id="201" name=""/>
              <p:cNvSpPr/>
              <p:nvPr/>
            </p:nvSpPr>
            <p:spPr>
              <a:xfrm>
                <a:off x="966960" y="3932280"/>
                <a:ext cx="5331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1960" y="4376880"/>
                <a:ext cx="896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368360" y="4065840"/>
                <a:ext cx="72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101600" y="4065840"/>
                <a:ext cx="2664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68360" y="4376880"/>
                <a:ext cx="88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679840" y="2911680"/>
              <a:ext cx="533160" cy="536400"/>
              <a:chOff x="2679840" y="2911680"/>
              <a:chExt cx="533160" cy="536400"/>
            </a:xfrm>
          </p:grpSpPr>
          <p:sp>
            <p:nvSpPr>
              <p:cNvPr id="207" name=""/>
              <p:cNvSpPr/>
              <p:nvPr/>
            </p:nvSpPr>
            <p:spPr>
              <a:xfrm>
                <a:off x="2679840" y="2911680"/>
                <a:ext cx="533160" cy="53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69480" y="3090240"/>
                <a:ext cx="35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69480" y="3269160"/>
                <a:ext cx="353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7694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1340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8576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0196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94624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9088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303588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80160" y="3090240"/>
                <a:ext cx="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124440" y="31352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946240" y="300096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46240" y="326916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764480" y="2162160"/>
              <a:ext cx="536400" cy="538200"/>
              <a:chOff x="7764480" y="2162160"/>
              <a:chExt cx="536400" cy="538200"/>
            </a:xfrm>
          </p:grpSpPr>
          <p:sp>
            <p:nvSpPr>
              <p:cNvPr id="222" name=""/>
              <p:cNvSpPr/>
              <p:nvPr/>
            </p:nvSpPr>
            <p:spPr>
              <a:xfrm>
                <a:off x="7764480" y="2162160"/>
                <a:ext cx="53640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853040" y="2251440"/>
                <a:ext cx="357120" cy="357120"/>
                <a:chOff x="7853040" y="2251440"/>
                <a:chExt cx="357120" cy="357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53040" y="2469240"/>
                  <a:ext cx="357120" cy="1393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7853040" y="2251440"/>
                  <a:ext cx="357120" cy="138600"/>
                  <a:chOff x="7853040" y="2251440"/>
                  <a:chExt cx="357120" cy="1386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7853040" y="2251440"/>
                    <a:ext cx="3571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264">
                        <a:moveTo>
                          <a:pt x="0" y="132"/>
                        </a:moveTo>
                        <a:cubicBezTo>
                          <a:pt x="57" y="76"/>
                          <a:pt x="86" y="0"/>
                          <a:pt x="171" y="19"/>
                        </a:cubicBezTo>
                        <a:cubicBezTo>
                          <a:pt x="256" y="38"/>
                          <a:pt x="428" y="226"/>
                          <a:pt x="513" y="245"/>
                        </a:cubicBezTo>
                        <a:cubicBezTo>
                          <a:pt x="598" y="264"/>
                          <a:pt x="627" y="189"/>
                          <a:pt x="684" y="13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8001360" y="2290680"/>
                    <a:ext cx="59760" cy="5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7853040" y="2358360"/>
                <a:ext cx="357120" cy="143280"/>
                <a:chOff x="7853040" y="2358360"/>
                <a:chExt cx="357120" cy="143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853040" y="2358360"/>
                  <a:ext cx="357120" cy="1432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8001360" y="2399040"/>
                  <a:ext cx="5976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5192640" y="1735200"/>
              <a:ext cx="6429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6000" y="1735200"/>
              <a:ext cx="8524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Hüllkurven- detek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73920" y="1735200"/>
              <a:ext cx="4809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Video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9840" y="1989360"/>
              <a:ext cx="539640" cy="1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37120" y="2911680"/>
              <a:ext cx="695520" cy="5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uarz-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7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67000" y="2911680"/>
              <a:ext cx="962280" cy="59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kal-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34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08840" y="1735200"/>
              <a:ext cx="8031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Logarithm. Verstär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6000" y="3824280"/>
              <a:ext cx="9082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-Ablenk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6760" y="3235320"/>
              <a:ext cx="9097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-Ablenk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7360" y="3984840"/>
              <a:ext cx="7491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ägezahn-Gene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11920" y="4089600"/>
              <a:ext cx="5889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zei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94160" y="1989360"/>
              <a:ext cx="5382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30440" y="1735200"/>
              <a:ext cx="64152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8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45" idx="3"/>
              <a:endCxn id="155" idx="2"/>
            </p:cNvCxnSpPr>
            <p:nvPr/>
          </p:nvCxnSpPr>
          <p:spPr>
            <a:xfrm>
              <a:off x="2307960" y="2427120"/>
              <a:ext cx="417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6" name=""/>
            <p:cNvCxnSpPr>
              <a:stCxn id="155" idx="6"/>
              <a:endCxn id="158" idx="1"/>
            </p:cNvCxnSpPr>
            <p:nvPr/>
          </p:nvCxnSpPr>
          <p:spPr>
            <a:xfrm flipV="1">
              <a:off x="3168360" y="2428200"/>
              <a:ext cx="315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7" name=""/>
            <p:cNvCxnSpPr>
              <a:stCxn id="176" idx="3"/>
              <a:endCxn id="181" idx="1"/>
            </p:cNvCxnSpPr>
            <p:nvPr/>
          </p:nvCxnSpPr>
          <p:spPr>
            <a:xfrm>
              <a:off x="6643800" y="2430000"/>
              <a:ext cx="31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8" name=""/>
            <p:cNvCxnSpPr>
              <a:stCxn id="222" idx="2"/>
              <a:endCxn id="188" idx="0"/>
            </p:cNvCxnSpPr>
            <p:nvPr/>
          </p:nvCxnSpPr>
          <p:spPr>
            <a:xfrm>
              <a:off x="8034120" y="2700000"/>
              <a:ext cx="5400" cy="80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9" name=""/>
            <p:cNvCxnSpPr>
              <a:stCxn id="207" idx="0"/>
              <a:endCxn id="155" idx="4"/>
            </p:cNvCxnSpPr>
            <p:nvPr/>
          </p:nvCxnSpPr>
          <p:spPr>
            <a:xfrm flipV="1">
              <a:off x="2945880" y="2656080"/>
              <a:ext cx="252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0" name=""/>
            <p:cNvCxnSpPr>
              <a:stCxn id="158" idx="3"/>
              <a:endCxn id="156" idx="2"/>
            </p:cNvCxnSpPr>
            <p:nvPr/>
          </p:nvCxnSpPr>
          <p:spPr>
            <a:xfrm>
              <a:off x="4017960" y="2428560"/>
              <a:ext cx="4737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1" name=""/>
            <p:cNvCxnSpPr>
              <a:stCxn id="156" idx="6"/>
              <a:endCxn id="167" idx="1"/>
            </p:cNvCxnSpPr>
            <p:nvPr/>
          </p:nvCxnSpPr>
          <p:spPr>
            <a:xfrm flipV="1">
              <a:off x="4940280" y="2428200"/>
              <a:ext cx="3117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2" name=""/>
            <p:cNvCxnSpPr>
              <a:stCxn id="167" idx="3"/>
              <a:endCxn id="176" idx="1"/>
            </p:cNvCxnSpPr>
            <p:nvPr/>
          </p:nvCxnSpPr>
          <p:spPr>
            <a:xfrm>
              <a:off x="5784480" y="243000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3" name=""/>
            <p:cNvCxnSpPr>
              <a:stCxn id="181" idx="3"/>
              <a:endCxn id="222" idx="1"/>
            </p:cNvCxnSpPr>
            <p:nvPr/>
          </p:nvCxnSpPr>
          <p:spPr>
            <a:xfrm>
              <a:off x="7500960" y="2430000"/>
              <a:ext cx="26424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4" name=""/>
            <p:cNvCxnSpPr>
              <a:stCxn id="194" idx="0"/>
              <a:endCxn id="156" idx="4"/>
            </p:cNvCxnSpPr>
            <p:nvPr/>
          </p:nvCxnSpPr>
          <p:spPr>
            <a:xfrm flipH="1" flipV="1">
              <a:off x="4715640" y="2656080"/>
              <a:ext cx="252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55" name=""/>
            <p:cNvCxnSpPr>
              <a:stCxn id="201" idx="0"/>
              <a:endCxn id="256" idx="2"/>
            </p:cNvCxnSpPr>
            <p:nvPr/>
          </p:nvCxnSpPr>
          <p:spPr>
            <a:xfrm flipH="1" flipV="1">
              <a:off x="1234440" y="3445920"/>
              <a:ext cx="1080" cy="48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sp>
          <p:nvSpPr>
            <p:cNvPr id="257" name=""/>
            <p:cNvSpPr/>
            <p:nvPr/>
          </p:nvSpPr>
          <p:spPr>
            <a:xfrm>
              <a:off x="1019160" y="2211480"/>
              <a:ext cx="426960" cy="431640"/>
            </a:xfrm>
            <a:prstGeom prst="flowChartSummingJunction">
              <a:avLst/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770120" y="2158920"/>
              <a:ext cx="538200" cy="536760"/>
              <a:chOff x="1770120" y="2158920"/>
              <a:chExt cx="538200" cy="536760"/>
            </a:xfrm>
          </p:grpSpPr>
          <p:sp>
            <p:nvSpPr>
              <p:cNvPr id="245" name=""/>
              <p:cNvSpPr/>
              <p:nvPr/>
            </p:nvSpPr>
            <p:spPr>
              <a:xfrm>
                <a:off x="1770120" y="2158920"/>
                <a:ext cx="538200" cy="536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859400" y="2256840"/>
                <a:ext cx="368280" cy="144000"/>
                <a:chOff x="1859400" y="2256840"/>
                <a:chExt cx="368280" cy="144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859400" y="2256840"/>
                  <a:ext cx="368280" cy="14400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2012400" y="2297160"/>
                  <a:ext cx="6156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859400" y="2470680"/>
                <a:ext cx="367200" cy="145080"/>
                <a:chOff x="1859400" y="2470680"/>
                <a:chExt cx="367200" cy="1450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859400" y="2470680"/>
                  <a:ext cx="367200" cy="14508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2011680" y="2511720"/>
                  <a:ext cx="6156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1859400" y="2364840"/>
                <a:ext cx="363240" cy="14292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966960" y="2908440"/>
              <a:ext cx="533160" cy="538200"/>
              <a:chOff x="966960" y="2908440"/>
              <a:chExt cx="533160" cy="538200"/>
            </a:xfrm>
          </p:grpSpPr>
          <p:sp>
            <p:nvSpPr>
              <p:cNvPr id="256" name=""/>
              <p:cNvSpPr/>
              <p:nvPr/>
            </p:nvSpPr>
            <p:spPr>
              <a:xfrm>
                <a:off x="966960" y="2908440"/>
                <a:ext cx="5331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51920" y="2991600"/>
                <a:ext cx="370080" cy="37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32920" y="3073680"/>
                <a:ext cx="205560" cy="207000"/>
              </a:xfrm>
              <a:custGeom>
                <a:avLst/>
                <a:gdLst/>
                <a:ahLst/>
                <a:rect l="l" t="t" r="r" b="b"/>
                <a:pathLst>
                  <a:path w="684" h="264">
                    <a:moveTo>
                      <a:pt x="0" y="132"/>
                    </a:moveTo>
                    <a:cubicBezTo>
                      <a:pt x="57" y="76"/>
                      <a:pt x="86" y="0"/>
                      <a:pt x="171" y="19"/>
                    </a:cubicBezTo>
                    <a:cubicBezTo>
                      <a:pt x="256" y="38"/>
                      <a:pt x="428" y="226"/>
                      <a:pt x="513" y="245"/>
                    </a:cubicBezTo>
                    <a:cubicBezTo>
                      <a:pt x="598" y="264"/>
                      <a:pt x="627" y="189"/>
                      <a:pt x="684" y="1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257840" y="2953800"/>
                <a:ext cx="20052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1011600" y="3197520"/>
                <a:ext cx="204480" cy="20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97520" y="2320920"/>
              <a:ext cx="251280" cy="416160"/>
              <a:chOff x="497520" y="2320920"/>
              <a:chExt cx="251280" cy="416160"/>
            </a:xfrm>
          </p:grpSpPr>
          <p:sp>
            <p:nvSpPr>
              <p:cNvPr id="272" name=""/>
              <p:cNvSpPr/>
              <p:nvPr/>
            </p:nvSpPr>
            <p:spPr>
              <a:xfrm>
                <a:off x="497520" y="2320920"/>
                <a:ext cx="251280" cy="22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306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3061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3160" y="2547000"/>
                <a:ext cx="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9640" y="2698920"/>
                <a:ext cx="167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1040" y="2736360"/>
                <a:ext cx="8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966960" y="1989360"/>
              <a:ext cx="533160" cy="1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is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16120" y="1731960"/>
              <a:ext cx="69840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F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72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57360" y="2908440"/>
              <a:ext cx="96192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ariab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sz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72-862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000" y="2051280"/>
              <a:ext cx="5918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inga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2320920"/>
              <a:ext cx="269640" cy="217440"/>
            </a:xfrm>
            <a:prstGeom prst="rightArrow">
              <a:avLst>
                <a:gd name="adj1" fmla="val 50000"/>
                <a:gd name="adj2" fmla="val 310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72" idx="0"/>
              <a:endCxn id="257" idx="2"/>
            </p:cNvCxnSpPr>
            <p:nvPr/>
          </p:nvCxnSpPr>
          <p:spPr>
            <a:xfrm flipV="1">
              <a:off x="623880" y="2426760"/>
              <a:ext cx="3880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2" name=""/>
            <p:cNvCxnSpPr>
              <a:stCxn id="256" idx="0"/>
              <a:endCxn id="257" idx="4"/>
            </p:cNvCxnSpPr>
            <p:nvPr/>
          </p:nvCxnSpPr>
          <p:spPr>
            <a:xfrm flipV="1">
              <a:off x="1233000" y="2650320"/>
              <a:ext cx="1080" cy="258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3" name=""/>
            <p:cNvCxnSpPr>
              <a:stCxn id="257" idx="6"/>
              <a:endCxn id="245" idx="1"/>
            </p:cNvCxnSpPr>
            <p:nvPr/>
          </p:nvCxnSpPr>
          <p:spPr>
            <a:xfrm>
              <a:off x="1454040" y="2427120"/>
              <a:ext cx="31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84" name=""/>
            <p:cNvCxnSpPr>
              <a:endCxn id="188" idx="1"/>
            </p:cNvCxnSpPr>
            <p:nvPr/>
          </p:nvCxnSpPr>
          <p:spPr>
            <a:xfrm>
              <a:off x="1240920" y="3769920"/>
              <a:ext cx="653508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</p:grpSp>
      <p:sp>
        <p:nvSpPr>
          <p:cNvPr id="285" name=""/>
          <p:cNvSpPr/>
          <p:nvPr/>
        </p:nvSpPr>
        <p:spPr>
          <a:xfrm>
            <a:off x="250920" y="4724280"/>
            <a:ext cx="8704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h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iedrige Frequenz (472…38…10,7 M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h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iedrige Bandbreite (19…1…0,18 M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te Auflösung auf verträglichem Frequenz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423-716A-4D05-B354-EC0B8942AD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4581000"/>
            <a:ext cx="87040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zip der ersten hohen Zwischenfrequ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hinderung von ungewollten Spiegelfrequen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wischenfrequenz von 433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70400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337-1DCE-4831-A5CD-D425CAC7F5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913440" cy="3178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. ZF-Filter mit 472 MHz bestimmt Umset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434 MHz Oszillator mit SAW-Resonator (quarzstab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fferenz von 38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" y="566100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087-A532-48EB-B575-674F7D539D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Misch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919920" cy="3167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4581360"/>
            <a:ext cx="8704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zillator (27 MHz) setzt 2.ZF (38 MHz) 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swertung des Signalpegels auf einem Zwischenfrequenzniveau von 10,7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A3B-0477-43B7-9103-F520BA03FC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auswert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3573000"/>
            <a:ext cx="87040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ilterung bestimmt gesamte Auflös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ogarithmische Darstellung für großen Messbereich (d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üllkurven-Detektor zur Pegelbestimm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der Signalglättung für bess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rstellung (Video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627280" y="1341360"/>
            <a:ext cx="3241440" cy="1982520"/>
            <a:chOff x="2627280" y="1341360"/>
            <a:chExt cx="3241440" cy="1982520"/>
          </a:xfrm>
        </p:grpSpPr>
        <p:sp>
          <p:nvSpPr>
            <p:cNvPr id="300" name=""/>
            <p:cNvSpPr/>
            <p:nvPr/>
          </p:nvSpPr>
          <p:spPr>
            <a:xfrm>
              <a:off x="2627280" y="1341360"/>
              <a:ext cx="3241440" cy="1982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mplitudenmess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751120" y="2332440"/>
              <a:ext cx="712080" cy="705960"/>
              <a:chOff x="2751120" y="2332440"/>
              <a:chExt cx="712080" cy="705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751120" y="2332440"/>
                <a:ext cx="712080" cy="70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28600" y="2449800"/>
                <a:ext cx="1080" cy="47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28600" y="2449800"/>
                <a:ext cx="41472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2928600" y="2685240"/>
                <a:ext cx="41472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883320" y="2332440"/>
              <a:ext cx="713880" cy="705960"/>
              <a:chOff x="3883320" y="2332440"/>
              <a:chExt cx="713880" cy="705960"/>
            </a:xfrm>
          </p:grpSpPr>
          <p:sp>
            <p:nvSpPr>
              <p:cNvPr id="307" name=""/>
              <p:cNvSpPr/>
              <p:nvPr/>
            </p:nvSpPr>
            <p:spPr>
              <a:xfrm>
                <a:off x="3883320" y="2332440"/>
                <a:ext cx="713880" cy="70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0560" y="250812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02840" y="2682360"/>
                <a:ext cx="4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2508120"/>
                <a:ext cx="237600" cy="1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120560" y="2682000"/>
                <a:ext cx="23760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58520" y="2508120"/>
                <a:ext cx="10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946400" y="2332440"/>
              <a:ext cx="709560" cy="712080"/>
              <a:chOff x="4946400" y="2332440"/>
              <a:chExt cx="709560" cy="712080"/>
            </a:xfrm>
          </p:grpSpPr>
          <p:sp>
            <p:nvSpPr>
              <p:cNvPr id="314" name=""/>
              <p:cNvSpPr/>
              <p:nvPr/>
            </p:nvSpPr>
            <p:spPr>
              <a:xfrm>
                <a:off x="4946400" y="2332440"/>
                <a:ext cx="709560" cy="71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063760" y="2450520"/>
                <a:ext cx="472680" cy="472320"/>
                <a:chOff x="5063760" y="2450520"/>
                <a:chExt cx="472680" cy="472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3760" y="2738520"/>
                  <a:ext cx="472680" cy="1843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5063760" y="2450520"/>
                  <a:ext cx="472680" cy="183240"/>
                  <a:chOff x="5063760" y="2450520"/>
                  <a:chExt cx="472680" cy="1832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63760" y="2450520"/>
                    <a:ext cx="47268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4" h="264">
                        <a:moveTo>
                          <a:pt x="0" y="132"/>
                        </a:moveTo>
                        <a:cubicBezTo>
                          <a:pt x="57" y="76"/>
                          <a:pt x="86" y="0"/>
                          <a:pt x="171" y="19"/>
                        </a:cubicBezTo>
                        <a:cubicBezTo>
                          <a:pt x="256" y="38"/>
                          <a:pt x="428" y="226"/>
                          <a:pt x="513" y="245"/>
                        </a:cubicBezTo>
                        <a:cubicBezTo>
                          <a:pt x="598" y="264"/>
                          <a:pt x="627" y="189"/>
                          <a:pt x="684" y="13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5259960" y="2502360"/>
                    <a:ext cx="79200" cy="7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5063760" y="2592000"/>
                <a:ext cx="472680" cy="189720"/>
                <a:chOff x="5063760" y="2592000"/>
                <a:chExt cx="472680" cy="1897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063760" y="2592000"/>
                  <a:ext cx="472680" cy="189720"/>
                </a:xfrm>
                <a:custGeom>
                  <a:avLst/>
                  <a:gdLst/>
                  <a:ahLst/>
                  <a:rect l="l" t="t" r="r" b="b"/>
                  <a:pathLst>
                    <a:path w="684" h="264">
                      <a:moveTo>
                        <a:pt x="0" y="132"/>
                      </a:moveTo>
                      <a:cubicBezTo>
                        <a:pt x="57" y="76"/>
                        <a:pt x="86" y="0"/>
                        <a:pt x="171" y="19"/>
                      </a:cubicBezTo>
                      <a:cubicBezTo>
                        <a:pt x="256" y="38"/>
                        <a:pt x="428" y="226"/>
                        <a:pt x="513" y="245"/>
                      </a:cubicBezTo>
                      <a:cubicBezTo>
                        <a:pt x="598" y="264"/>
                        <a:pt x="627" y="189"/>
                        <a:pt x="684" y="1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5259960" y="2645280"/>
                  <a:ext cx="7920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3889800" y="1767600"/>
              <a:ext cx="112788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Hüllkurven- detek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91120" y="1767600"/>
              <a:ext cx="63648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Video-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5440" y="1767600"/>
              <a:ext cx="106272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ahoma"/>
                </a:rPr>
                <a:t>Logarithm. Verstär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"/>
            <p:cNvCxnSpPr>
              <a:stCxn id="302" idx="3"/>
              <a:endCxn id="307" idx="1"/>
            </p:cNvCxnSpPr>
            <p:nvPr/>
          </p:nvCxnSpPr>
          <p:spPr>
            <a:xfrm>
              <a:off x="3462840" y="2687040"/>
              <a:ext cx="42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327" name=""/>
            <p:cNvCxnSpPr>
              <a:stCxn id="307" idx="3"/>
              <a:endCxn id="314" idx="1"/>
            </p:cNvCxnSpPr>
            <p:nvPr/>
          </p:nvCxnSpPr>
          <p:spPr>
            <a:xfrm>
              <a:off x="4597560" y="2687400"/>
              <a:ext cx="34920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lg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9E7-A9A2-44A3-BCAD-DFEA550299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arithmischer Det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771640" y="2492280"/>
          <a:ext cx="459612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4596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916360" y="1773360"/>
            <a:ext cx="1152360" cy="86364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1773360"/>
            <a:ext cx="1152720" cy="863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89080" y="5157720"/>
            <a:ext cx="14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8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5661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kaloszillator (27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1268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schmalbandige Filter mit 10,7 MHz (B=180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35640" y="5157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SSI-Ausgang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 rot="5400000">
            <a:off x="4788360" y="45795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3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7587"/>
                <a:lnTo>
                  <a:pt x="10839" y="0"/>
                </a:lnTo>
                <a:arcTo wR="10800" hR="10800" stAng="-5387587" swAng="538758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52720" y="4581360"/>
            <a:ext cx="1368360" cy="144144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41440"/>
              <a:gd name="textAreaBottom" fmla="*/ 1442160 h 1441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5326"/>
                <a:lnTo>
                  <a:pt x="10846" y="0"/>
                </a:lnTo>
                <a:arcTo wR="10800" hR="10800" stAng="-5385326" swAng="538532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3996720" y="4581360"/>
            <a:ext cx="1368360" cy="1441440"/>
          </a:xfrm>
          <a:custGeom>
            <a:avLst/>
            <a:gdLst>
              <a:gd name="textAreaLeft" fmla="*/ -360 w 1368360"/>
              <a:gd name="textAreaRight" fmla="*/ 1368360 w 1368360"/>
              <a:gd name="textAreaTop" fmla="*/ 360 h 1441440"/>
              <a:gd name="textAreaBottom" fmla="*/ 1442160 h 1441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85326"/>
                <a:lnTo>
                  <a:pt x="10846" y="0"/>
                </a:lnTo>
                <a:arcTo wR="10800" hR="10800" stAng="-5385326" swAng="538532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240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57336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s SA 6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3284640"/>
            <a:ext cx="2448000" cy="1008000"/>
          </a:xfrm>
          <a:prstGeom prst="rightArrow">
            <a:avLst>
              <a:gd name="adj1" fmla="val 50000"/>
              <a:gd name="adj2" fmla="val 607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BAC-936A-45CE-A536-326B37AB1F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a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m Spektralanalys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e, Zeit und Frequenzbereich, Darstel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 Konz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pass-Verfahren, Prinzip der Mischung, Überlagerungspr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chaltbild, Frequenzumsetz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ktorschalt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teu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dröhre und Anze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EEA-634A-4F7D-8F59-0CC75D5811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u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ilaufender Sägezahngenerat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ste X-Ablenkung der Anzei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ariable VCO-Steuerspannung bestimmt Frequ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tastung der Bildröhre beim Rück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nutzer-Einstellu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urchlauffrequenz (Sweep):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83…50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rstellungsbandbreite (Span)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…39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ittenfrequenz (Center)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…39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457-9452-43CB-8492-B3E80BC1AE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Bildröh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5473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zillographenröhre DG 7-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 elektrostatischer Ablenk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3551040" cy="2247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1562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072-D049-4FB3-BBB5-A4448F9961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ze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50920" y="1483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teuerungsschaltung aus Philips EE 1007/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fache und effektive Schaltungstechnik m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nnungswand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-Ablenkverstä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punkt-Einstel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57600" cy="17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500720" y="5300640"/>
            <a:ext cx="46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ähere Infos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fieros.de/philips/EE200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norbert.old.no/exp/phili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77D-E783-4036-8D06-2CBB8897AF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usammenfass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istungsfähigkeit außer Konkurrenz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er Funktionalität ist gewährleist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…390 MHz mit ~60dB Dynamikberei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bietet Raum für Erweiterungen und Verbesserungen (digitale Steuerung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sante Technik mit Lerneffek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D8F-698A-4166-95EC-F876043DC0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Danke für Ihre Aufmerksamkeit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140-A9CB-4D85-9C91-D5052435D9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orführung des Gerä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antwortung von Frag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881-CE69-4CBE-972D-992B0EFF3B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Id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3456000" cy="169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4508640"/>
            <a:ext cx="8704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268280"/>
            <a:ext cx="8704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84280"/>
            <a:ext cx="8704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ilips-Experimentierkästen der EE-Rei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00536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292640"/>
            <a:ext cx="8281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tzenmodelle aus den 70er-J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zillograph, Transistor-Kennlinienschreiber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rnsehempfänger für Batterie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ndlung aktueller Grund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00536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8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. 280.-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45744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C29-DF91-46B8-8B78-CC1D17BCE4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Erweiteru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ntrale Bereiche der Elektrotechni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it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uanleitung für ein funktionsfähiges Oszillosk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urde bereits in der Baukastenserie behand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quenz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pektrumanalysator als Messger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urde leider nicht vorgestel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Bau eines Spektrum Analysat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37372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ED6-718B-4F39-B8B1-3F2133BBE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arum Spektralanalys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eitbereich für Ereignisse (Transient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stiegszeiten, Überschwingen, Begren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requenzbereich, Spektral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pektrale Zusammensetzung von Sign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rmonische Verzerr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dulationsverzerr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equenz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wichtig in der Nachrichtentechn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5805360"/>
            <a:ext cx="648000" cy="503280"/>
          </a:xfrm>
          <a:prstGeom prst="rightArrow">
            <a:avLst>
              <a:gd name="adj1" fmla="val 50000"/>
              <a:gd name="adj2" fmla="val 3218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177-FECB-43DC-8570-1B528B7200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iodische Sig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608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der Fourier-Reihen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iner“ Si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WM-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-Signal mit Trä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skrete Spek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frequenz 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rmonische 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= n▪f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bina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614760" cy="1724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620880" cy="156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3616200" cy="16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EA0-397E-4506-B3BE-7E0322394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chtperiodische Sig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39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sche Sig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us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e Bitfol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tion (QPS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inuierliches Spek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rachtung im Frequenzbereich sinnv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16240" cy="52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306-1EC0-47EA-910B-93E39789C1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Zeit- und Frequenzberei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267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thematischer Zusammenh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urier-Transformation bzw. Rücktrans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65840" y="2349360"/>
            <a:ext cx="4178160" cy="267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4176720" cy="239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480" y="5084640"/>
            <a:ext cx="86425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thematisch korrekt, doch technisch nicht realisierbar (t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482-5140-4989-B884-B57134AC03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rstellungsfor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schiedliche Vorgehensweis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it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kte visuelle Umsetzung (Zeit – Amplitu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rachtung im Frequenzberei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ung von Signal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z.B. abstimmbare Bandpass-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ung der Spannungsamplitu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sammenhang Frequenz – Amplitude m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nsatz von Empfängertechn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Hageneder, 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CE6-7849-4AD2-89D6-A5CE74080D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.12.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34Z</dcterms:created>
  <dc:creator>D. Hageneder</dc:creator>
  <dc:description/>
  <dc:language>en-US</dc:language>
  <cp:lastModifiedBy>Mücke</cp:lastModifiedBy>
  <dcterms:modified xsi:type="dcterms:W3CDTF">2009-06-20T15:32:04Z</dcterms:modified>
  <cp:revision>560</cp:revision>
  <dc:subject/>
  <dc:title>Folie 1</dc:title>
</cp:coreProperties>
</file>