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153-6B6C-453D-BDEA-9E03B39B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987-CB68-411F-A3AF-98F583CF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FEB-4D82-4239-9215-5631A728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CF0-12F1-432E-8570-EC1C9C6B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36F9-EBE3-4F20-A4B6-8F85B03B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BA46-EC25-4247-A78D-EB43E2D1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D5E3-7F44-4BFD-BED7-28DD2B7C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47F2-D72C-4597-8283-7E9B06F8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F29A-9A8C-4CF8-999B-7AE2755D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AA14-BF93-4CDE-B2CF-1B0FC822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65E2-B3CB-40BB-B6D2-9E22007C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338-0057-4367-AF63-42CF0958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7E98-6412-4ECA-B8AD-636E61D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8E08-87BF-40A8-81E8-8B7066D2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02F7-CA9E-4C18-B4CA-CB08E415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19D5-90E2-423B-A3F7-006C89B1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3DE8-8E4C-453E-AD14-F787F796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F66-533F-4CF3-BE9F-00E58404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EDB-DC75-408A-83BD-A829DC07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6C4-DE1C-4472-B8D3-DB4F69FF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A44-C422-4D7F-9AA8-38707512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DD2-AA2D-4353-8809-32E7DA3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B5A-B222-4F16-902D-743EF992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A3C-E80B-4719-A4E2-7BD81D4F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78AB-17D5-4D49-9E2E-5EF903DCE5C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4B15-301C-40B8-82C7-81B757186D7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Black"/>
              </a:rPr>
              <a:t>Digitalwaag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Black"/>
              </a:rPr>
              <a:t>Ausbildungsprojek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Black"/>
              </a:rPr>
              <a:t>1. Lehrjahr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Funktionsübersich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3886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aues Wiege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ra - Funk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ielle Schnittstelle zum PC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waage%20v.r.%20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648320" cy="4259160"/>
          </a:xfrm>
          <a:prstGeom prst="rect">
            <a:avLst/>
          </a:prstGeom>
          <a:ln w="0">
            <a:noFill/>
          </a:ln>
        </p:spPr>
      </p:pic>
      <p:pic>
        <p:nvPicPr>
          <p:cNvPr id="105" name="waage%20v.h.%20" descr=""/>
          <p:cNvPicPr/>
          <p:nvPr/>
        </p:nvPicPr>
        <p:blipFill>
          <a:blip r:embed="rId2"/>
          <a:stretch/>
        </p:blipFill>
        <p:spPr>
          <a:xfrm>
            <a:off x="4267080" y="2133720"/>
            <a:ext cx="4648320" cy="4259160"/>
          </a:xfrm>
          <a:prstGeom prst="rect">
            <a:avLst/>
          </a:prstGeom>
          <a:ln w="0">
            <a:noFill/>
          </a:ln>
        </p:spPr>
      </p:pic>
      <p:pic>
        <p:nvPicPr>
          <p:cNvPr id="106" name="waage%20v.r.%20" descr=""/>
          <p:cNvPicPr/>
          <p:nvPr/>
        </p:nvPicPr>
        <p:blipFill>
          <a:blip r:embed="rId3"/>
          <a:stretch/>
        </p:blipFill>
        <p:spPr>
          <a:xfrm>
            <a:off x="4267080" y="2133720"/>
            <a:ext cx="46483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Innenlebe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" name="offenes%20gehäuse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4800600" cy="29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7086600" y="2666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logt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562360" y="3733920"/>
            <a:ext cx="1523880" cy="380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tzt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2362320"/>
            <a:ext cx="3581280" cy="15238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114800"/>
            <a:ext cx="3886200" cy="15238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648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638680" y="2895480"/>
            <a:ext cx="1447920" cy="304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6248520" y="4343040"/>
            <a:ext cx="838080" cy="152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5562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Bit D/A-W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257800" y="4876920"/>
            <a:ext cx="838080" cy="838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3581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4343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lay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MSC 1210 Hauptfeatures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2" name="msc1211%20graphik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5181480" cy="4145040"/>
          </a:xfrm>
          <a:prstGeom prst="rect">
            <a:avLst/>
          </a:prstGeom>
          <a:ln w="0">
            <a:noFill/>
          </a:ln>
        </p:spPr>
      </p:pic>
      <p:pic>
        <p:nvPicPr>
          <p:cNvPr id="123" name="msc1210" descr=""/>
          <p:cNvPicPr/>
          <p:nvPr/>
        </p:nvPicPr>
        <p:blipFill>
          <a:blip r:embed="rId2"/>
          <a:stretch/>
        </p:blipFill>
        <p:spPr>
          <a:xfrm>
            <a:off x="6477120" y="4724280"/>
            <a:ext cx="1447560" cy="139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5562720" y="22096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-Kanal-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grammable Gain Amplifier (P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zisionsreferenz-span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ash 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grammierbar i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Wägezelle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2209320"/>
            <a:ext cx="4343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zisionsteil aus Aluminiu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er aufgeklebte Dehnungsmessstreifen (DMS) zusammengeschaltet zur sog. Wheatstoneschen Brück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egung von max. 2,5mm entspricht ca. 200g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wägezelle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28600" y="2209680"/>
            <a:ext cx="4114800" cy="410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Arbeitsschitte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stenheft und Planung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truktionszeichnunge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altplän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tinenlayou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undplatte fertigen, Wägezelle fräsen, Wägeteller drehe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ststoffgehäuse bearbeite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tine bestücken, Funktionstests, Fehlersuch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ftwareprogrammierung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dmontage und Prüfung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igabe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07:12:33Z</dcterms:created>
  <dc:creator>SU</dc:creator>
  <dc:description/>
  <dc:language>en-US</dc:language>
  <cp:lastModifiedBy>SU</cp:lastModifiedBy>
  <dcterms:modified xsi:type="dcterms:W3CDTF">2004-08-23T11:44:19Z</dcterms:modified>
  <cp:revision>20</cp:revision>
  <dc:subject/>
  <dc:title>Digitalwaage</dc:title>
</cp:coreProperties>
</file>